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797440"/>
            <a:ext cx="9132840" cy="1049400"/>
            <a:chOff x="0" y="5797440"/>
            <a:chExt cx="9132840" cy="1049400"/>
          </a:xfrm>
        </p:grpSpPr>
        <p:sp>
          <p:nvSpPr>
            <p:cNvPr id="1" name=""/>
            <p:cNvSpPr/>
            <p:nvPr/>
          </p:nvSpPr>
          <p:spPr>
            <a:xfrm>
              <a:off x="0" y="5835600"/>
              <a:ext cx="9131400" cy="1009800"/>
            </a:xfrm>
            <a:prstGeom prst="rect">
              <a:avLst/>
            </a:prstGeom>
            <a:gradFill rotWithShape="0">
              <a:gsLst>
                <a:gs pos="0">
                  <a:srgbClr val="05174a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5797440"/>
              <a:ext cx="9132840" cy="1049400"/>
              <a:chOff x="0" y="5797440"/>
              <a:chExt cx="9132840" cy="104940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8580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39068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9556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80044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50532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19112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89600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19600" y="5797440"/>
                <a:ext cx="91620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43560" y="5797440"/>
                <a:ext cx="91620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08660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1056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59720" y="6064200"/>
                <a:ext cx="573120" cy="782640"/>
              </a:xfrm>
              <a:custGeom>
                <a:avLst/>
                <a:gdLst/>
                <a:ahLst/>
                <a:rect l="l" t="t" r="r" b="b"/>
                <a:pathLst>
                  <a:path w="361" h="493">
                    <a:moveTo>
                      <a:pt x="0" y="492"/>
                    </a:moveTo>
                    <a:lnTo>
                      <a:pt x="360" y="0"/>
                    </a:lnTo>
                    <a:lnTo>
                      <a:pt x="360" y="120"/>
                    </a:lnTo>
                    <a:lnTo>
                      <a:pt x="96" y="492"/>
                    </a:lnTo>
                    <a:lnTo>
                      <a:pt x="0" y="4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Helvetica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5000"/>
              <a:buFont typeface="Helvetica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ow to Use Basic Computer Applications to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chieve Higher-Order Think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8120" y="1650960"/>
            <a:ext cx="3327120" cy="3924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49528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orah L. Lowther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versity of Memp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8560" y="17226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216000"/>
            <a:ext cx="7775640" cy="123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Higher-Order Thinki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714680"/>
            <a:ext cx="5181480" cy="34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nam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~ Creative ~ Reflective ~ Reasonable ~ Logical ~ Analy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any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791320" y="1650960"/>
            <a:ext cx="3327120" cy="3924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28560" y="134136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lossary of Thinking-Skills Term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vino (1990)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429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75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M'S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VE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8560" y="16462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LOOM'S TAXONOMY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61680"/>
            <a:ext cx="7772400" cy="39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concrete to abs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rehen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-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nthe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8560" y="11890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RITICAL THINKING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27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 proces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ing the authenticity, accuracy, or value of  some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bility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 reasons and alternativ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ive the total situation and change one's view based on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8560" y="111276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REATIVE THINKING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486080"/>
            <a:ext cx="50292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ovel way of seeing or doing things that invol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ency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ing many 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exibility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ifting perspective eas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iginality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iving of something n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boration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ing on other 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8560" y="11890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484960" y="3429000"/>
            <a:ext cx="320508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COGNI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714680"/>
            <a:ext cx="7772400" cy="163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planning, assessing, and monitoring one's own thinking and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8560" y="134136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971800" y="2705040"/>
            <a:ext cx="2666880" cy="31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PLEX THINKING PROCESS</a:t>
            </a:r>
            <a:br>
              <a:rPr sz="3600"/>
            </a:b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Iowa, 1989 in Jonassen - Mindtools 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224784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Helvetica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/basic Thinking (accepted knowled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Solving, Designing, &amp; Decision 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Helvetica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Thinking (reorganized knowled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ing, Connecting, &amp; Evalu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Helvetica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ve Thinking (generated knowled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hesizing, Elaborating, &amp; Imag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200" y="1565280"/>
            <a:ext cx="5190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-directed integration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o ~ What is Higher-Order Thinking?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esizing ~ planning ~ modify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ing patterns ~ classify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ing sequences ~ comparing/contra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hesizing ~ elaborating ~ analyzing ~ evalua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 words...higher-order thinking is any activity which requires students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c0081"/>
                </a:solidFill>
                <a:latin typeface="Arial"/>
              </a:rPr>
              <a:t>process information in meaningful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8560" y="11890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c0081"/>
                </a:solidFill>
                <a:latin typeface="Times New Roman"/>
              </a:rPr>
              <a:t>But, there is more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486080"/>
            <a:ext cx="7391520" cy="43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ing 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critical spiri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s important 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ing critically...it requires one to thin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ly about all aspects of lif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, to think critically abo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's own thin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etacognition)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orris,1985, p. 44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257800" y="4419720"/>
            <a:ext cx="1946160" cy="19461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519960" y="3733920"/>
            <a:ext cx="2624040" cy="2624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010280" y="51436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ce teachers are expected to use computers to engage students in Higher-Order Thinking...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dc0081"/>
                </a:solidFill>
                <a:latin typeface="Times New Roman"/>
              </a:rPr>
              <a:t>How do we do it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377172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etent 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 Instructional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 Integration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291280" y="2749680"/>
            <a:ext cx="30146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2574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Zapf Dingba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status of computers in today’s classroo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Zapf Dingba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expected of teachers with regards to Higher-Order Thinking and using technolo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Higher-Order Think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Zapf Dingba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an basic computer applications be used to achieve Higher-Order Think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8560" y="9604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63360" indent="0" algn="r">
              <a:lnSpc>
                <a:spcPct val="150000"/>
              </a:lnSpc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gin with a Competent Teacher ... one who is </a:t>
            </a:r>
            <a:br>
              <a:rPr sz="3600"/>
            </a:br>
            <a:r>
              <a:rPr b="0" i="1" lang="en-US" sz="4400" spc="-1" strike="noStrike">
                <a:solidFill>
                  <a:srgbClr val="dc0081"/>
                </a:solidFill>
                <a:latin typeface="Times New Roman"/>
              </a:rPr>
              <a:t>Technologically Competent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3314520"/>
            <a:ext cx="6858000" cy="95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s the relationship between computer functions and lear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0120" y="2638440"/>
            <a:ext cx="2507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s teacher ~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92280" y="577440"/>
            <a:ext cx="7759440" cy="490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7000"/>
          </a:bodyPr>
          <a:p>
            <a:pPr lvl="1" marL="443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is teacher als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reates and facilitates a student-centered learning environment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collaborative problem-solving that requires higher-order th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es multiple resources and real-world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s on technology as a tool - not as the focus of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...meets or exceeds “The Standard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se Effective Instructional Strategie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79840" y="332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2095560"/>
            <a:ext cx="3809880" cy="36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c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to learn facts for verbatim recal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nemon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gration</a:t>
            </a:r>
            <a:r>
              <a:rPr b="0" lang="en-US" sz="2800" spc="-1" strike="noStrike">
                <a:solidFill>
                  <a:srgbClr val="dc008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to make information more easily remember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phra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ting questions or examp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1640" y="2171520"/>
            <a:ext cx="3809880" cy="33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ganizat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to structure inform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l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egoriz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boration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to go beyond existing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ting mental im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di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1400" y="1266840"/>
            <a:ext cx="4508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c0081"/>
                </a:solidFill>
                <a:latin typeface="Times New Roman"/>
              </a:rPr>
              <a:t>Generative Strateg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8560" y="9604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716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se Effective Integration Method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143320"/>
            <a:ext cx="8305920" cy="49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205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TeQ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tegrating Technology for iQui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43080" y="1486080"/>
            <a:ext cx="8461440" cy="3441600"/>
            <a:chOff x="343080" y="1486080"/>
            <a:chExt cx="8461440" cy="34416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343080" y="1486080"/>
              <a:ext cx="8445240" cy="34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2296800" y="1522440"/>
              <a:ext cx="132444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Computer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Function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11480" y="1522440"/>
              <a:ext cx="139248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Specify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Problem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89680" y="1522440"/>
              <a:ext cx="205092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Data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Manipulati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3440" y="1522440"/>
              <a:ext cx="135324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Specify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Objective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73720" y="1533600"/>
              <a:ext cx="163080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Result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Presentati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46800" y="4191120"/>
              <a:ext cx="132444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At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Computer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73440" y="4191120"/>
              <a:ext cx="132444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Before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Computer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191120"/>
              <a:ext cx="132444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After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Computer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20040" y="4479840"/>
              <a:ext cx="145080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Supporting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5600" y="4479840"/>
              <a:ext cx="13654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Geneva"/>
                </a:rPr>
                <a:t>Evaluati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97280" y="3162240"/>
              <a:ext cx="3124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A c t i v i t i e 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14640" y="3424320"/>
              <a:ext cx="1611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931080" y="3427560"/>
              <a:ext cx="16495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TeQ Lesson Pla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dc0081"/>
                </a:solidFill>
                <a:latin typeface="Times New Roman"/>
              </a:rPr>
              <a:t>10 </a:t>
            </a:r>
            <a:r>
              <a:rPr b="0" i="1" lang="en-US" sz="3600" spc="-1" strike="noStrike">
                <a:solidFill>
                  <a:srgbClr val="dc0081"/>
                </a:solidFill>
                <a:latin typeface="Times New Roman"/>
              </a:rPr>
              <a:t>- Step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2247840"/>
            <a:ext cx="44956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y 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Computer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y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Data Mani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Results 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247840"/>
            <a:ext cx="457200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Activities While at 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Activities Prior to 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Activities After 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Supporting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8560" y="14176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a Problem-Based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019240"/>
            <a:ext cx="82296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 attained during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s may have multiple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meaningful proble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solving requires a hands-on invol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c0081"/>
                </a:solidFill>
                <a:latin typeface="Arial"/>
              </a:rPr>
              <a:t>Note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Sol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ive Learning Strateg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Higher-Order Th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8560" y="16462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36520" y="90360"/>
            <a:ext cx="1532160" cy="14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~ KISS ~ Approach </a:t>
            </a:r>
            <a:br>
              <a:rPr sz="4400"/>
            </a:br>
            <a:r>
              <a:rPr b="0" i="1" lang="en-US" sz="3200" spc="-1" strike="noStrike">
                <a:solidFill>
                  <a:srgbClr val="dc0081"/>
                </a:solidFill>
                <a:latin typeface="Times New Roman"/>
              </a:rPr>
              <a:t>Keep it Simple Sweethear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714680"/>
            <a:ext cx="82296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with what students are to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problem for students to so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activities that require higher-order thi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Computer tool - if appropr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the Functions of Basic Computer Applicatio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2095560"/>
            <a:ext cx="4495680" cy="36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eadshe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ng/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w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8560" y="17226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165640" y="3489480"/>
            <a:ext cx="3368880" cy="2852640"/>
            <a:chOff x="5165640" y="3489480"/>
            <a:chExt cx="3368880" cy="285264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5165640" y="3489480"/>
              <a:ext cx="336888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785920" y="3819600"/>
              <a:ext cx="1874520" cy="155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Sor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Matc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Calculat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base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160" y="1638360"/>
            <a:ext cx="57150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e data in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rt data (alpha or numer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g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specialized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562720" y="3608280"/>
            <a:ext cx="354168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readsheet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8296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 Calc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r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Charts/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291280" y="3075120"/>
            <a:ext cx="3436920" cy="36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95200"/>
            <a:ext cx="777528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is the status of computers in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today’s classrooms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66960"/>
            <a:ext cx="70866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many computers are in our schoo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ary sch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3 students per comp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dle and high schoo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2 students per comp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 they being u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most 60% of 7,100 8th grade and 6,600 4th grade math students indicated they never or hardly ever use computers for math (Archer, 1998 - Education Week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994360" y="2209680"/>
            <a:ext cx="2476440" cy="2463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28560" y="17226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 Processing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714320"/>
            <a:ext cx="4267440" cy="369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it and format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Out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Colum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Grap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8560" y="134136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451480" y="3295800"/>
            <a:ext cx="3263760" cy="2920680"/>
            <a:chOff x="5451480" y="3295800"/>
            <a:chExt cx="3263760" cy="292068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5451480" y="3295800"/>
              <a:ext cx="3263760" cy="29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102360" y="3541680"/>
              <a:ext cx="2062080" cy="148896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6562800" y="3692520"/>
              <a:ext cx="1111320" cy="115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rowser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52320" y="1866600"/>
            <a:ext cx="5715000" cy="300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lvl="1" marL="639000" indent="-24552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es by  Key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marks web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Links to text, virtual tou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Interactive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30120" y="3124080"/>
            <a:ext cx="3403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-317520"/>
            <a:ext cx="7775280" cy="235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thoring/Presentation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s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Nav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s Ani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s or Creates Graphics and Soun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s Vid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-317520"/>
            <a:ext cx="7775280" cy="235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unications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60" y="1790640"/>
            <a:ext cx="8839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synchronous/asynchronous commun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s/Receives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s/Receives Video/Au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s/Receives Attach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ves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15325" t="2720" r="10285" b="3474"/>
          <a:stretch/>
        </p:blipFill>
        <p:spPr>
          <a:xfrm>
            <a:off x="6095880" y="3384720"/>
            <a:ext cx="2997360" cy="33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siderations for us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asic Applic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1920" y="1790640"/>
            <a:ext cx="48006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720720" indent="-277200">
              <a:spcBef>
                <a:spcPts val="499"/>
              </a:spcBef>
              <a:buClr>
                <a:srgbClr val="ffff00"/>
              </a:buClr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Arial"/>
              </a:rPr>
              <a:t>Databa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Use with information that has repetitive patterns and can be easily describ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00"/>
              </a:buClr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Arial"/>
              </a:rPr>
              <a:t>Spreadshee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Use with sets of numbers that have repetitive patterns which can be described with at least two variables (Row &amp; Colum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00"/>
              </a:buClr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Arial"/>
              </a:rPr>
              <a:t>Word Processing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with information that can be paraphrased or organized in meaningful w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495680" y="1790640"/>
            <a:ext cx="381024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83280" indent="-262800">
              <a:spcBef>
                <a:spcPts val="499"/>
              </a:spcBef>
              <a:buClr>
                <a:srgbClr val="ffff00"/>
              </a:buClr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Arial"/>
              </a:rPr>
              <a:t>Brow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Use to access information or to engage in interactive learn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00"/>
              </a:buClr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Arial"/>
              </a:rPr>
              <a:t>Authoring/Presentation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o display information that can be enhanced by interacti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00"/>
              </a:buClr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Arial"/>
              </a:rPr>
              <a:t>Communic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Use when interactivity with others will enh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8560" y="156996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~ KISS ~ Approach </a:t>
            </a:r>
            <a:br>
              <a:rPr sz="3200"/>
            </a:br>
            <a:r>
              <a:rPr b="0" i="1" lang="en-US" sz="4400" spc="-1" strike="noStrike">
                <a:solidFill>
                  <a:srgbClr val="dc0081"/>
                </a:solidFill>
                <a:latin typeface="Times New Roman"/>
              </a:rPr>
              <a:t>Let’s See an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400480"/>
            <a:ext cx="8229600" cy="30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with what students are to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problem for students to sol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activities that require higher-order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Computer tool - if 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8560" y="179856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Students Learn </a:t>
            </a:r>
            <a:br>
              <a:rPr sz="4000"/>
            </a:br>
            <a:r>
              <a:rPr b="0" i="1" lang="en-US" sz="4000" spc="-1" strike="noStrike">
                <a:solidFill>
                  <a:srgbClr val="dc0081"/>
                </a:solidFill>
                <a:latin typeface="Times New Roman"/>
              </a:rPr>
              <a:t>Some Examp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1790640"/>
            <a:ext cx="403848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sts or mathematici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vil Rights lea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torical landm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l 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1790640"/>
            <a:ext cx="380988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 Presid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s and their 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ather patte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 cities or 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angered spe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 volcano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od gro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8560" y="16462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lanets in Our Solar Syste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1333440"/>
            <a:ext cx="807732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Primary Learning 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ion and Characteristics of each pla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Primary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r life be different if you lived on another plan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28560" y="9604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ample Secondary Probl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754380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Helvetic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earth, you become one year older every 365 days.  On which planet would you be the oldest ~ younge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Helvetic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which planet would you weigh the most ~ lea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Helvetic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modifications would your body need to survive on Ma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8560" y="134136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an activities that require higher-order think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5440" y="1662120"/>
            <a:ext cx="824220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 what students will need to do to solve the probl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n earth, you become one year older every 365 days.  On which planet would you be the oldest ~ younges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s many of the following as possib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esizing ~ planning ~ modify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ing patterns ~ classify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ing sequences ~ comparing/contra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hesizing ~ elaborating ~ analyzing ~ evalu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8560" y="11890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are computers in our school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960" y="1257120"/>
            <a:ext cx="609588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0840" indent="-265680">
              <a:spcBef>
                <a:spcPts val="700"/>
              </a:spcBef>
              <a:buClr>
                <a:srgbClr val="ffffff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 Read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jority of people (76%) who took a 1998 Public Opinion Poll indicate that computers should be used to prepare students for job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are computers being u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40% of the 13,000 4th and 8th grade math students used comp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those about half only used them for drill and practice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 only 20% of these students are using computers in ways that will prepare them for the work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8560" y="10368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918040" y="1130400"/>
            <a:ext cx="290844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ample Activities that require Higher-Order Think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279396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1400" y="900000"/>
            <a:ext cx="6946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n earth, you become one year older every 365 days.  On which planet would you be the oldest ~ younges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6840" y="1738440"/>
            <a:ext cx="7327800" cy="47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lect Planet inform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planning ~ analyzing ~ synthesizing ~evalu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 Planet 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planning ~ synthesizing ~ analyzing ~ 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modif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Planet database to identify planet on which students would be oldest ~ young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recognizing patterns ~ analyz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comparing/contrasting ~ classifying ~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finding sequ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ample Activities that require Higher-Order Thi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279396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1400" y="900000"/>
            <a:ext cx="3594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which planet would you weigh the most ~ leas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7720" y="1814400"/>
            <a:ext cx="7327800" cy="41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lect Planet inform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planning ~ analyzing ~ synthesizing ~evalu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 Planet spreadshe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planning ~ synthesizing ~ analyzing ~ 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modifying ~ calculating ~ cha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Planet spreadsheet to identify planet on which students would weigh the most ~ le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comparing/contrasting ~ analyz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ample Activities that require Higher-Order Thi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62720" y="279396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1400" y="747720"/>
            <a:ext cx="4051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modifications would your body need to survive on Mar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7720" y="1814400"/>
            <a:ext cx="732780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llect Planet informatio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dc0081"/>
                </a:solidFill>
                <a:latin typeface="Arial"/>
              </a:rPr>
              <a:t>planning ~ analyzing ~ synthesizing ~evaluat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esign Planet Databas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dc0081"/>
                </a:solidFill>
                <a:latin typeface="Arial"/>
              </a:rPr>
              <a:t>planning ~ synthesizing ~ analyzing ~ modify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se Planet database to determine similarities/differences between Earth and M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c0081"/>
                </a:solidFill>
                <a:latin typeface="Arial"/>
              </a:rPr>
              <a:t>recognizing patterns ~ comparing/contrasting ~ finding sequences ~ classifying ~ analyz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se HyperStudio to create a stack that describes the needed modification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c0081"/>
                </a:solidFill>
                <a:latin typeface="Arial"/>
              </a:rPr>
              <a:t>planning ~ classifying ~ comparing/contrast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c0081"/>
                </a:solidFill>
                <a:latin typeface="Arial"/>
              </a:rPr>
              <a:t>synthesizing ~ elaborating ~  evaluat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access is no longer a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s are not being used to support Higher-Order Thinking or prepare students for the work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’s standards require students to think critically and use technology as a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Arial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components are needed to use technology to support Higher-Order Think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ologically Competent 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of Effective Instructional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of Effective Integration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c0081"/>
                </a:solidFill>
                <a:latin typeface="Times New Roman"/>
              </a:rPr>
              <a:t>Key Poi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 Use computer functions to assist students with processing information at a higher-order thinking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7756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ource File</a:t>
            </a:r>
            <a:br>
              <a:rPr sz="4400"/>
            </a:br>
            <a:br>
              <a:rPr sz="4400"/>
            </a:br>
            <a:r>
              <a:rPr b="0" lang="en-US" sz="5400" spc="-1" strike="noStrike">
                <a:solidFill>
                  <a:srgbClr val="dc0081"/>
                </a:solidFill>
                <a:latin typeface="Times New Roman"/>
              </a:rPr>
              <a:t>nteq.com</a:t>
            </a:r>
            <a:br>
              <a:rPr sz="5400"/>
            </a:br>
            <a:br>
              <a:rPr sz="5400"/>
            </a:b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7564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expected of teachers with regards to Higher-Order Thinking and using technology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8560" y="271296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152360" y="1911240"/>
            <a:ext cx="2811600" cy="2814840"/>
            <a:chOff x="1152360" y="1911240"/>
            <a:chExt cx="2811600" cy="2814840"/>
          </a:xfrm>
        </p:grpSpPr>
        <p:sp>
          <p:nvSpPr>
            <p:cNvPr id="72" name=""/>
            <p:cNvSpPr/>
            <p:nvPr/>
          </p:nvSpPr>
          <p:spPr>
            <a:xfrm>
              <a:off x="2344680" y="4011480"/>
              <a:ext cx="1619280" cy="701640"/>
            </a:xfrm>
            <a:custGeom>
              <a:avLst/>
              <a:gdLst/>
              <a:ahLst/>
              <a:rect l="l" t="t" r="r" b="b"/>
              <a:pathLst>
                <a:path w="1020" h="442">
                  <a:moveTo>
                    <a:pt x="431" y="0"/>
                  </a:moveTo>
                  <a:lnTo>
                    <a:pt x="1019" y="212"/>
                  </a:lnTo>
                  <a:lnTo>
                    <a:pt x="603" y="441"/>
                  </a:lnTo>
                  <a:lnTo>
                    <a:pt x="0" y="161"/>
                  </a:lnTo>
                  <a:lnTo>
                    <a:pt x="43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1152360" y="3844800"/>
              <a:ext cx="1482840" cy="881280"/>
              <a:chOff x="1152360" y="3844800"/>
              <a:chExt cx="1482840" cy="88128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1152360" y="4019400"/>
                <a:ext cx="1368720" cy="706680"/>
                <a:chOff x="1152360" y="4019400"/>
                <a:chExt cx="1368720" cy="7066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766880" y="4295880"/>
                  <a:ext cx="716040" cy="409320"/>
                </a:xfrm>
                <a:custGeom>
                  <a:avLst/>
                  <a:gdLst/>
                  <a:ahLst/>
                  <a:rect l="l" t="t" r="r" b="b"/>
                  <a:pathLst>
                    <a:path w="451" h="258">
                      <a:moveTo>
                        <a:pt x="450" y="14"/>
                      </a:moveTo>
                      <a:lnTo>
                        <a:pt x="450" y="110"/>
                      </a:lnTo>
                      <a:lnTo>
                        <a:pt x="38" y="257"/>
                      </a:lnTo>
                      <a:lnTo>
                        <a:pt x="0" y="120"/>
                      </a:lnTo>
                      <a:lnTo>
                        <a:pt x="407" y="0"/>
                      </a:lnTo>
                      <a:lnTo>
                        <a:pt x="450" y="1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152360" y="4019400"/>
                  <a:ext cx="1368720" cy="706680"/>
                </a:xfrm>
                <a:custGeom>
                  <a:avLst/>
                  <a:gdLst/>
                  <a:ahLst/>
                  <a:rect l="l" t="t" r="r" b="b"/>
                  <a:pathLst>
                    <a:path w="862" h="445">
                      <a:moveTo>
                        <a:pt x="856" y="189"/>
                      </a:moveTo>
                      <a:lnTo>
                        <a:pt x="431" y="326"/>
                      </a:lnTo>
                      <a:lnTo>
                        <a:pt x="435" y="417"/>
                      </a:lnTo>
                      <a:lnTo>
                        <a:pt x="837" y="279"/>
                      </a:lnTo>
                      <a:lnTo>
                        <a:pt x="861" y="289"/>
                      </a:lnTo>
                      <a:lnTo>
                        <a:pt x="431" y="444"/>
                      </a:lnTo>
                      <a:lnTo>
                        <a:pt x="0" y="202"/>
                      </a:lnTo>
                      <a:lnTo>
                        <a:pt x="0" y="119"/>
                      </a:lnTo>
                      <a:lnTo>
                        <a:pt x="431" y="0"/>
                      </a:lnTo>
                      <a:lnTo>
                        <a:pt x="856" y="189"/>
                      </a:lnTo>
                    </a:path>
                  </a:pathLst>
                </a:custGeom>
                <a:solidFill>
                  <a:srgbClr val="4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76480" y="4216320"/>
                  <a:ext cx="645840" cy="480960"/>
                </a:xfrm>
                <a:custGeom>
                  <a:avLst/>
                  <a:gdLst/>
                  <a:ahLst/>
                  <a:rect l="l" t="t" r="r" b="b"/>
                  <a:pathLst>
                    <a:path w="407" h="303">
                      <a:moveTo>
                        <a:pt x="401" y="202"/>
                      </a:moveTo>
                      <a:lnTo>
                        <a:pt x="406" y="302"/>
                      </a:lnTo>
                      <a:lnTo>
                        <a:pt x="0" y="73"/>
                      </a:lnTo>
                      <a:lnTo>
                        <a:pt x="0" y="0"/>
                      </a:lnTo>
                      <a:lnTo>
                        <a:pt x="401" y="202"/>
                      </a:lnTo>
                    </a:path>
                  </a:pathLst>
                </a:custGeom>
                <a:solidFill>
                  <a:srgbClr val="6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266840" y="3844800"/>
                <a:ext cx="1368360" cy="706680"/>
                <a:chOff x="1266840" y="3844800"/>
                <a:chExt cx="1368360" cy="7066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881360" y="4121280"/>
                  <a:ext cx="715680" cy="409320"/>
                </a:xfrm>
                <a:custGeom>
                  <a:avLst/>
                  <a:gdLst/>
                  <a:ahLst/>
                  <a:rect l="l" t="t" r="r" b="b"/>
                  <a:pathLst>
                    <a:path w="451" h="258">
                      <a:moveTo>
                        <a:pt x="450" y="13"/>
                      </a:moveTo>
                      <a:lnTo>
                        <a:pt x="450" y="110"/>
                      </a:lnTo>
                      <a:lnTo>
                        <a:pt x="43" y="257"/>
                      </a:lnTo>
                      <a:lnTo>
                        <a:pt x="0" y="124"/>
                      </a:lnTo>
                      <a:lnTo>
                        <a:pt x="412" y="0"/>
                      </a:lnTo>
                      <a:lnTo>
                        <a:pt x="450" y="13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266840" y="3844800"/>
                  <a:ext cx="1368360" cy="706680"/>
                </a:xfrm>
                <a:custGeom>
                  <a:avLst/>
                  <a:gdLst/>
                  <a:ahLst/>
                  <a:rect l="l" t="t" r="r" b="b"/>
                  <a:pathLst>
                    <a:path w="862" h="445">
                      <a:moveTo>
                        <a:pt x="861" y="187"/>
                      </a:moveTo>
                      <a:lnTo>
                        <a:pt x="431" y="326"/>
                      </a:lnTo>
                      <a:lnTo>
                        <a:pt x="436" y="421"/>
                      </a:lnTo>
                      <a:lnTo>
                        <a:pt x="837" y="279"/>
                      </a:lnTo>
                      <a:lnTo>
                        <a:pt x="861" y="289"/>
                      </a:lnTo>
                      <a:lnTo>
                        <a:pt x="431" y="444"/>
                      </a:lnTo>
                      <a:lnTo>
                        <a:pt x="0" y="202"/>
                      </a:lnTo>
                      <a:lnTo>
                        <a:pt x="0" y="119"/>
                      </a:lnTo>
                      <a:lnTo>
                        <a:pt x="431" y="0"/>
                      </a:lnTo>
                      <a:lnTo>
                        <a:pt x="861" y="187"/>
                      </a:lnTo>
                    </a:path>
                  </a:pathLst>
                </a:custGeom>
                <a:solidFill>
                  <a:srgbClr val="402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289160" y="4049640"/>
                  <a:ext cx="655560" cy="473040"/>
                </a:xfrm>
                <a:custGeom>
                  <a:avLst/>
                  <a:gdLst/>
                  <a:ahLst/>
                  <a:rect l="l" t="t" r="r" b="b"/>
                  <a:pathLst>
                    <a:path w="413" h="298">
                      <a:moveTo>
                        <a:pt x="407" y="197"/>
                      </a:moveTo>
                      <a:lnTo>
                        <a:pt x="412" y="297"/>
                      </a:lnTo>
                      <a:lnTo>
                        <a:pt x="0" y="73"/>
                      </a:lnTo>
                      <a:lnTo>
                        <a:pt x="0" y="0"/>
                      </a:lnTo>
                      <a:lnTo>
                        <a:pt x="407" y="197"/>
                      </a:lnTo>
                    </a:path>
                  </a:pathLst>
                </a:custGeom>
                <a:solidFill>
                  <a:srgbClr val="603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" name=""/>
            <p:cNvGrpSpPr/>
            <p:nvPr/>
          </p:nvGrpSpPr>
          <p:grpSpPr>
            <a:xfrm>
              <a:off x="1311120" y="2754360"/>
              <a:ext cx="2127240" cy="1447920"/>
              <a:chOff x="1311120" y="2754360"/>
              <a:chExt cx="2127240" cy="1447920"/>
            </a:xfrm>
          </p:grpSpPr>
          <p:sp>
            <p:nvSpPr>
              <p:cNvPr id="83" name=""/>
              <p:cNvSpPr/>
              <p:nvPr/>
            </p:nvSpPr>
            <p:spPr>
              <a:xfrm>
                <a:off x="1311120" y="2754360"/>
                <a:ext cx="2127240" cy="1447920"/>
              </a:xfrm>
              <a:custGeom>
                <a:avLst/>
                <a:gdLst/>
                <a:ahLst/>
                <a:rect l="l" t="t" r="r" b="b"/>
                <a:pathLst>
                  <a:path w="1340" h="912">
                    <a:moveTo>
                      <a:pt x="765" y="27"/>
                    </a:moveTo>
                    <a:lnTo>
                      <a:pt x="880" y="100"/>
                    </a:lnTo>
                    <a:lnTo>
                      <a:pt x="981" y="150"/>
                    </a:lnTo>
                    <a:lnTo>
                      <a:pt x="1004" y="160"/>
                    </a:lnTo>
                    <a:lnTo>
                      <a:pt x="1024" y="187"/>
                    </a:lnTo>
                    <a:lnTo>
                      <a:pt x="1038" y="233"/>
                    </a:lnTo>
                    <a:lnTo>
                      <a:pt x="1034" y="279"/>
                    </a:lnTo>
                    <a:lnTo>
                      <a:pt x="1019" y="504"/>
                    </a:lnTo>
                    <a:lnTo>
                      <a:pt x="1024" y="544"/>
                    </a:lnTo>
                    <a:lnTo>
                      <a:pt x="1029" y="577"/>
                    </a:lnTo>
                    <a:lnTo>
                      <a:pt x="1043" y="595"/>
                    </a:lnTo>
                    <a:lnTo>
                      <a:pt x="1072" y="604"/>
                    </a:lnTo>
                    <a:lnTo>
                      <a:pt x="1162" y="678"/>
                    </a:lnTo>
                    <a:lnTo>
                      <a:pt x="1335" y="783"/>
                    </a:lnTo>
                    <a:lnTo>
                      <a:pt x="1339" y="843"/>
                    </a:lnTo>
                    <a:lnTo>
                      <a:pt x="1307" y="879"/>
                    </a:lnTo>
                    <a:lnTo>
                      <a:pt x="1267" y="906"/>
                    </a:lnTo>
                    <a:lnTo>
                      <a:pt x="1205" y="911"/>
                    </a:lnTo>
                    <a:lnTo>
                      <a:pt x="852" y="751"/>
                    </a:lnTo>
                    <a:lnTo>
                      <a:pt x="737" y="764"/>
                    </a:lnTo>
                    <a:lnTo>
                      <a:pt x="733" y="806"/>
                    </a:lnTo>
                    <a:lnTo>
                      <a:pt x="709" y="851"/>
                    </a:lnTo>
                    <a:lnTo>
                      <a:pt x="680" y="884"/>
                    </a:lnTo>
                    <a:lnTo>
                      <a:pt x="613" y="888"/>
                    </a:lnTo>
                    <a:lnTo>
                      <a:pt x="316" y="815"/>
                    </a:lnTo>
                    <a:lnTo>
                      <a:pt x="139" y="783"/>
                    </a:lnTo>
                    <a:lnTo>
                      <a:pt x="49" y="737"/>
                    </a:lnTo>
                    <a:lnTo>
                      <a:pt x="11" y="709"/>
                    </a:lnTo>
                    <a:lnTo>
                      <a:pt x="0" y="632"/>
                    </a:lnTo>
                    <a:lnTo>
                      <a:pt x="15" y="599"/>
                    </a:lnTo>
                    <a:lnTo>
                      <a:pt x="34" y="549"/>
                    </a:lnTo>
                    <a:lnTo>
                      <a:pt x="34" y="499"/>
                    </a:lnTo>
                    <a:lnTo>
                      <a:pt x="120" y="202"/>
                    </a:lnTo>
                    <a:lnTo>
                      <a:pt x="135" y="142"/>
                    </a:lnTo>
                    <a:lnTo>
                      <a:pt x="182" y="78"/>
                    </a:lnTo>
                    <a:lnTo>
                      <a:pt x="231" y="41"/>
                    </a:lnTo>
                    <a:lnTo>
                      <a:pt x="259" y="32"/>
                    </a:lnTo>
                    <a:lnTo>
                      <a:pt x="312" y="36"/>
                    </a:lnTo>
                    <a:lnTo>
                      <a:pt x="393" y="13"/>
                    </a:lnTo>
                    <a:lnTo>
                      <a:pt x="440" y="13"/>
                    </a:lnTo>
                    <a:lnTo>
                      <a:pt x="498" y="0"/>
                    </a:lnTo>
                    <a:lnTo>
                      <a:pt x="517" y="23"/>
                    </a:lnTo>
                    <a:lnTo>
                      <a:pt x="765" y="27"/>
                    </a:lnTo>
                  </a:path>
                </a:pathLst>
              </a:custGeom>
              <a:solidFill>
                <a:srgbClr val="0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17600" y="2921040"/>
                <a:ext cx="265320" cy="858960"/>
              </a:xfrm>
              <a:custGeom>
                <a:avLst/>
                <a:gdLst/>
                <a:ahLst/>
                <a:rect l="l" t="t" r="r" b="b"/>
                <a:pathLst>
                  <a:path w="167" h="541">
                    <a:moveTo>
                      <a:pt x="166" y="0"/>
                    </a:moveTo>
                    <a:lnTo>
                      <a:pt x="134" y="99"/>
                    </a:lnTo>
                    <a:lnTo>
                      <a:pt x="103" y="167"/>
                    </a:lnTo>
                    <a:lnTo>
                      <a:pt x="90" y="207"/>
                    </a:lnTo>
                    <a:lnTo>
                      <a:pt x="76" y="238"/>
                    </a:lnTo>
                    <a:lnTo>
                      <a:pt x="72" y="275"/>
                    </a:lnTo>
                    <a:lnTo>
                      <a:pt x="63" y="346"/>
                    </a:lnTo>
                    <a:lnTo>
                      <a:pt x="35" y="540"/>
                    </a:lnTo>
                    <a:lnTo>
                      <a:pt x="49" y="329"/>
                    </a:lnTo>
                    <a:lnTo>
                      <a:pt x="49" y="262"/>
                    </a:lnTo>
                    <a:lnTo>
                      <a:pt x="41" y="225"/>
                    </a:lnTo>
                    <a:lnTo>
                      <a:pt x="32" y="184"/>
                    </a:lnTo>
                    <a:lnTo>
                      <a:pt x="23" y="153"/>
                    </a:lnTo>
                    <a:lnTo>
                      <a:pt x="5" y="90"/>
                    </a:lnTo>
                    <a:lnTo>
                      <a:pt x="0" y="14"/>
                    </a:lnTo>
                    <a:lnTo>
                      <a:pt x="166" y="0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1360440" y="2782800"/>
                <a:ext cx="2057400" cy="1376280"/>
                <a:chOff x="1360440" y="2782800"/>
                <a:chExt cx="2057400" cy="13762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778040" y="2782800"/>
                  <a:ext cx="484200" cy="1041480"/>
                </a:xfrm>
                <a:custGeom>
                  <a:avLst/>
                  <a:gdLst/>
                  <a:ahLst/>
                  <a:rect l="l" t="t" r="r" b="b"/>
                  <a:pathLst>
                    <a:path w="305" h="656">
                      <a:moveTo>
                        <a:pt x="193" y="0"/>
                      </a:moveTo>
                      <a:lnTo>
                        <a:pt x="87" y="27"/>
                      </a:lnTo>
                      <a:lnTo>
                        <a:pt x="37" y="27"/>
                      </a:lnTo>
                      <a:lnTo>
                        <a:pt x="0" y="27"/>
                      </a:lnTo>
                      <a:lnTo>
                        <a:pt x="22" y="77"/>
                      </a:lnTo>
                      <a:lnTo>
                        <a:pt x="31" y="150"/>
                      </a:lnTo>
                      <a:lnTo>
                        <a:pt x="31" y="236"/>
                      </a:lnTo>
                      <a:lnTo>
                        <a:pt x="27" y="312"/>
                      </a:lnTo>
                      <a:lnTo>
                        <a:pt x="13" y="371"/>
                      </a:lnTo>
                      <a:lnTo>
                        <a:pt x="37" y="470"/>
                      </a:lnTo>
                      <a:lnTo>
                        <a:pt x="37" y="515"/>
                      </a:lnTo>
                      <a:lnTo>
                        <a:pt x="22" y="556"/>
                      </a:lnTo>
                      <a:lnTo>
                        <a:pt x="27" y="578"/>
                      </a:lnTo>
                      <a:lnTo>
                        <a:pt x="73" y="601"/>
                      </a:lnTo>
                      <a:lnTo>
                        <a:pt x="235" y="633"/>
                      </a:lnTo>
                      <a:lnTo>
                        <a:pt x="291" y="655"/>
                      </a:lnTo>
                      <a:lnTo>
                        <a:pt x="291" y="574"/>
                      </a:lnTo>
                      <a:lnTo>
                        <a:pt x="304" y="349"/>
                      </a:lnTo>
                      <a:lnTo>
                        <a:pt x="286" y="290"/>
                      </a:lnTo>
                      <a:lnTo>
                        <a:pt x="258" y="172"/>
                      </a:lnTo>
                      <a:lnTo>
                        <a:pt x="231" y="100"/>
                      </a:lnTo>
                      <a:lnTo>
                        <a:pt x="193" y="0"/>
                      </a:lnTo>
                    </a:path>
                  </a:pathLst>
                </a:custGeom>
                <a:solidFill>
                  <a:srgbClr val="0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286000" y="2819520"/>
                  <a:ext cx="576360" cy="1114200"/>
                </a:xfrm>
                <a:custGeom>
                  <a:avLst/>
                  <a:gdLst/>
                  <a:ahLst/>
                  <a:rect l="l" t="t" r="r" b="b"/>
                  <a:pathLst>
                    <a:path w="363" h="702">
                      <a:moveTo>
                        <a:pt x="362" y="127"/>
                      </a:moveTo>
                      <a:lnTo>
                        <a:pt x="316" y="105"/>
                      </a:lnTo>
                      <a:lnTo>
                        <a:pt x="260" y="73"/>
                      </a:lnTo>
                      <a:lnTo>
                        <a:pt x="205" y="46"/>
                      </a:lnTo>
                      <a:lnTo>
                        <a:pt x="186" y="32"/>
                      </a:lnTo>
                      <a:lnTo>
                        <a:pt x="157" y="0"/>
                      </a:lnTo>
                      <a:lnTo>
                        <a:pt x="144" y="14"/>
                      </a:lnTo>
                      <a:lnTo>
                        <a:pt x="139" y="100"/>
                      </a:lnTo>
                      <a:lnTo>
                        <a:pt x="115" y="154"/>
                      </a:lnTo>
                      <a:lnTo>
                        <a:pt x="88" y="221"/>
                      </a:lnTo>
                      <a:lnTo>
                        <a:pt x="55" y="290"/>
                      </a:lnTo>
                      <a:lnTo>
                        <a:pt x="51" y="322"/>
                      </a:lnTo>
                      <a:lnTo>
                        <a:pt x="46" y="381"/>
                      </a:lnTo>
                      <a:lnTo>
                        <a:pt x="33" y="465"/>
                      </a:lnTo>
                      <a:lnTo>
                        <a:pt x="9" y="583"/>
                      </a:lnTo>
                      <a:lnTo>
                        <a:pt x="0" y="642"/>
                      </a:lnTo>
                      <a:lnTo>
                        <a:pt x="64" y="656"/>
                      </a:lnTo>
                      <a:lnTo>
                        <a:pt x="111" y="664"/>
                      </a:lnTo>
                      <a:lnTo>
                        <a:pt x="130" y="701"/>
                      </a:lnTo>
                      <a:lnTo>
                        <a:pt x="214" y="692"/>
                      </a:lnTo>
                      <a:lnTo>
                        <a:pt x="199" y="578"/>
                      </a:lnTo>
                      <a:lnTo>
                        <a:pt x="232" y="497"/>
                      </a:lnTo>
                      <a:lnTo>
                        <a:pt x="256" y="430"/>
                      </a:lnTo>
                      <a:lnTo>
                        <a:pt x="241" y="335"/>
                      </a:lnTo>
                      <a:lnTo>
                        <a:pt x="298" y="231"/>
                      </a:lnTo>
                      <a:lnTo>
                        <a:pt x="325" y="199"/>
                      </a:lnTo>
                      <a:lnTo>
                        <a:pt x="362" y="127"/>
                      </a:lnTo>
                    </a:path>
                  </a:pathLst>
                </a:custGeom>
                <a:solidFill>
                  <a:srgbClr val="0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674800" y="3032280"/>
                  <a:ext cx="743040" cy="1126800"/>
                </a:xfrm>
                <a:custGeom>
                  <a:avLst/>
                  <a:gdLst/>
                  <a:ahLst/>
                  <a:rect l="l" t="t" r="r" b="b"/>
                  <a:pathLst>
                    <a:path w="468" h="710">
                      <a:moveTo>
                        <a:pt x="153" y="0"/>
                      </a:moveTo>
                      <a:lnTo>
                        <a:pt x="173" y="45"/>
                      </a:lnTo>
                      <a:lnTo>
                        <a:pt x="168" y="77"/>
                      </a:lnTo>
                      <a:lnTo>
                        <a:pt x="153" y="121"/>
                      </a:lnTo>
                      <a:lnTo>
                        <a:pt x="153" y="180"/>
                      </a:lnTo>
                      <a:lnTo>
                        <a:pt x="153" y="306"/>
                      </a:lnTo>
                      <a:lnTo>
                        <a:pt x="102" y="320"/>
                      </a:lnTo>
                      <a:lnTo>
                        <a:pt x="65" y="365"/>
                      </a:lnTo>
                      <a:lnTo>
                        <a:pt x="107" y="352"/>
                      </a:lnTo>
                      <a:lnTo>
                        <a:pt x="158" y="338"/>
                      </a:lnTo>
                      <a:lnTo>
                        <a:pt x="168" y="370"/>
                      </a:lnTo>
                      <a:lnTo>
                        <a:pt x="125" y="370"/>
                      </a:lnTo>
                      <a:lnTo>
                        <a:pt x="88" y="375"/>
                      </a:lnTo>
                      <a:lnTo>
                        <a:pt x="70" y="387"/>
                      </a:lnTo>
                      <a:lnTo>
                        <a:pt x="121" y="392"/>
                      </a:lnTo>
                      <a:lnTo>
                        <a:pt x="158" y="392"/>
                      </a:lnTo>
                      <a:lnTo>
                        <a:pt x="164" y="402"/>
                      </a:lnTo>
                      <a:lnTo>
                        <a:pt x="125" y="406"/>
                      </a:lnTo>
                      <a:lnTo>
                        <a:pt x="88" y="433"/>
                      </a:lnTo>
                      <a:lnTo>
                        <a:pt x="79" y="465"/>
                      </a:lnTo>
                      <a:lnTo>
                        <a:pt x="102" y="442"/>
                      </a:lnTo>
                      <a:lnTo>
                        <a:pt x="164" y="424"/>
                      </a:lnTo>
                      <a:lnTo>
                        <a:pt x="182" y="424"/>
                      </a:lnTo>
                      <a:lnTo>
                        <a:pt x="336" y="528"/>
                      </a:lnTo>
                      <a:lnTo>
                        <a:pt x="420" y="578"/>
                      </a:lnTo>
                      <a:lnTo>
                        <a:pt x="462" y="601"/>
                      </a:lnTo>
                      <a:lnTo>
                        <a:pt x="467" y="618"/>
                      </a:lnTo>
                      <a:lnTo>
                        <a:pt x="443" y="614"/>
                      </a:lnTo>
                      <a:lnTo>
                        <a:pt x="406" y="618"/>
                      </a:lnTo>
                      <a:lnTo>
                        <a:pt x="379" y="632"/>
                      </a:lnTo>
                      <a:lnTo>
                        <a:pt x="368" y="655"/>
                      </a:lnTo>
                      <a:lnTo>
                        <a:pt x="359" y="677"/>
                      </a:lnTo>
                      <a:lnTo>
                        <a:pt x="368" y="709"/>
                      </a:lnTo>
                      <a:lnTo>
                        <a:pt x="340" y="700"/>
                      </a:lnTo>
                      <a:lnTo>
                        <a:pt x="313" y="663"/>
                      </a:lnTo>
                      <a:lnTo>
                        <a:pt x="261" y="632"/>
                      </a:lnTo>
                      <a:lnTo>
                        <a:pt x="79" y="551"/>
                      </a:lnTo>
                      <a:lnTo>
                        <a:pt x="61" y="510"/>
                      </a:lnTo>
                      <a:lnTo>
                        <a:pt x="4" y="488"/>
                      </a:lnTo>
                      <a:lnTo>
                        <a:pt x="0" y="415"/>
                      </a:lnTo>
                      <a:lnTo>
                        <a:pt x="22" y="357"/>
                      </a:lnTo>
                      <a:lnTo>
                        <a:pt x="55" y="306"/>
                      </a:lnTo>
                      <a:lnTo>
                        <a:pt x="46" y="249"/>
                      </a:lnTo>
                      <a:lnTo>
                        <a:pt x="46" y="194"/>
                      </a:lnTo>
                      <a:lnTo>
                        <a:pt x="92" y="108"/>
                      </a:lnTo>
                      <a:lnTo>
                        <a:pt x="125" y="67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0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360440" y="2841480"/>
                  <a:ext cx="1108080" cy="1281240"/>
                </a:xfrm>
                <a:custGeom>
                  <a:avLst/>
                  <a:gdLst/>
                  <a:ahLst/>
                  <a:rect l="l" t="t" r="r" b="b"/>
                  <a:pathLst>
                    <a:path w="698" h="807">
                      <a:moveTo>
                        <a:pt x="654" y="651"/>
                      </a:moveTo>
                      <a:lnTo>
                        <a:pt x="682" y="661"/>
                      </a:lnTo>
                      <a:lnTo>
                        <a:pt x="697" y="697"/>
                      </a:lnTo>
                      <a:lnTo>
                        <a:pt x="692" y="733"/>
                      </a:lnTo>
                      <a:lnTo>
                        <a:pt x="678" y="769"/>
                      </a:lnTo>
                      <a:lnTo>
                        <a:pt x="645" y="806"/>
                      </a:lnTo>
                      <a:lnTo>
                        <a:pt x="584" y="801"/>
                      </a:lnTo>
                      <a:lnTo>
                        <a:pt x="263" y="728"/>
                      </a:lnTo>
                      <a:lnTo>
                        <a:pt x="70" y="683"/>
                      </a:lnTo>
                      <a:lnTo>
                        <a:pt x="165" y="643"/>
                      </a:lnTo>
                      <a:lnTo>
                        <a:pt x="211" y="597"/>
                      </a:lnTo>
                      <a:lnTo>
                        <a:pt x="169" y="597"/>
                      </a:lnTo>
                      <a:lnTo>
                        <a:pt x="113" y="634"/>
                      </a:lnTo>
                      <a:lnTo>
                        <a:pt x="47" y="643"/>
                      </a:lnTo>
                      <a:lnTo>
                        <a:pt x="104" y="616"/>
                      </a:lnTo>
                      <a:lnTo>
                        <a:pt x="156" y="579"/>
                      </a:lnTo>
                      <a:lnTo>
                        <a:pt x="89" y="588"/>
                      </a:lnTo>
                      <a:lnTo>
                        <a:pt x="23" y="579"/>
                      </a:lnTo>
                      <a:lnTo>
                        <a:pt x="74" y="565"/>
                      </a:lnTo>
                      <a:lnTo>
                        <a:pt x="145" y="548"/>
                      </a:lnTo>
                      <a:lnTo>
                        <a:pt x="113" y="525"/>
                      </a:lnTo>
                      <a:lnTo>
                        <a:pt x="56" y="543"/>
                      </a:lnTo>
                      <a:lnTo>
                        <a:pt x="0" y="543"/>
                      </a:lnTo>
                      <a:lnTo>
                        <a:pt x="43" y="516"/>
                      </a:lnTo>
                      <a:lnTo>
                        <a:pt x="70" y="511"/>
                      </a:lnTo>
                      <a:lnTo>
                        <a:pt x="98" y="493"/>
                      </a:lnTo>
                      <a:lnTo>
                        <a:pt x="32" y="461"/>
                      </a:lnTo>
                      <a:lnTo>
                        <a:pt x="23" y="444"/>
                      </a:lnTo>
                      <a:lnTo>
                        <a:pt x="47" y="353"/>
                      </a:lnTo>
                      <a:lnTo>
                        <a:pt x="94" y="190"/>
                      </a:lnTo>
                      <a:lnTo>
                        <a:pt x="122" y="140"/>
                      </a:lnTo>
                      <a:lnTo>
                        <a:pt x="122" y="91"/>
                      </a:lnTo>
                      <a:lnTo>
                        <a:pt x="169" y="45"/>
                      </a:lnTo>
                      <a:lnTo>
                        <a:pt x="221" y="0"/>
                      </a:lnTo>
                      <a:lnTo>
                        <a:pt x="259" y="9"/>
                      </a:lnTo>
                      <a:lnTo>
                        <a:pt x="278" y="81"/>
                      </a:lnTo>
                      <a:lnTo>
                        <a:pt x="278" y="212"/>
                      </a:lnTo>
                      <a:lnTo>
                        <a:pt x="249" y="299"/>
                      </a:lnTo>
                      <a:lnTo>
                        <a:pt x="226" y="402"/>
                      </a:lnTo>
                      <a:lnTo>
                        <a:pt x="211" y="466"/>
                      </a:lnTo>
                      <a:lnTo>
                        <a:pt x="230" y="493"/>
                      </a:lnTo>
                      <a:lnTo>
                        <a:pt x="211" y="506"/>
                      </a:lnTo>
                      <a:lnTo>
                        <a:pt x="230" y="520"/>
                      </a:lnTo>
                      <a:lnTo>
                        <a:pt x="217" y="533"/>
                      </a:lnTo>
                      <a:lnTo>
                        <a:pt x="259" y="552"/>
                      </a:lnTo>
                      <a:lnTo>
                        <a:pt x="254" y="565"/>
                      </a:lnTo>
                      <a:lnTo>
                        <a:pt x="334" y="579"/>
                      </a:lnTo>
                      <a:lnTo>
                        <a:pt x="424" y="602"/>
                      </a:lnTo>
                      <a:lnTo>
                        <a:pt x="517" y="638"/>
                      </a:lnTo>
                      <a:lnTo>
                        <a:pt x="612" y="647"/>
                      </a:lnTo>
                      <a:lnTo>
                        <a:pt x="654" y="651"/>
                      </a:lnTo>
                    </a:path>
                  </a:pathLst>
                </a:custGeom>
                <a:solidFill>
                  <a:srgbClr val="0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" name=""/>
            <p:cNvGrpSpPr/>
            <p:nvPr/>
          </p:nvGrpSpPr>
          <p:grpSpPr>
            <a:xfrm>
              <a:off x="2406600" y="3919680"/>
              <a:ext cx="1330200" cy="529920"/>
              <a:chOff x="2406600" y="3919680"/>
              <a:chExt cx="1330200" cy="52992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2406600" y="3968640"/>
                <a:ext cx="714600" cy="270000"/>
                <a:chOff x="2406600" y="3968640"/>
                <a:chExt cx="714600" cy="2700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406600" y="3968640"/>
                  <a:ext cx="714600" cy="270000"/>
                </a:xfrm>
                <a:custGeom>
                  <a:avLst/>
                  <a:gdLst/>
                  <a:ahLst/>
                  <a:rect l="l" t="t" r="r" b="b"/>
                  <a:pathLst>
                    <a:path w="450" h="170">
                      <a:moveTo>
                        <a:pt x="47" y="0"/>
                      </a:moveTo>
                      <a:lnTo>
                        <a:pt x="62" y="14"/>
                      </a:lnTo>
                      <a:lnTo>
                        <a:pt x="100" y="10"/>
                      </a:lnTo>
                      <a:lnTo>
                        <a:pt x="147" y="5"/>
                      </a:lnTo>
                      <a:lnTo>
                        <a:pt x="171" y="0"/>
                      </a:lnTo>
                      <a:lnTo>
                        <a:pt x="200" y="0"/>
                      </a:lnTo>
                      <a:lnTo>
                        <a:pt x="243" y="0"/>
                      </a:lnTo>
                      <a:lnTo>
                        <a:pt x="291" y="0"/>
                      </a:lnTo>
                      <a:lnTo>
                        <a:pt x="329" y="0"/>
                      </a:lnTo>
                      <a:lnTo>
                        <a:pt x="348" y="0"/>
                      </a:lnTo>
                      <a:lnTo>
                        <a:pt x="391" y="0"/>
                      </a:lnTo>
                      <a:lnTo>
                        <a:pt x="406" y="5"/>
                      </a:lnTo>
                      <a:lnTo>
                        <a:pt x="415" y="10"/>
                      </a:lnTo>
                      <a:lnTo>
                        <a:pt x="425" y="19"/>
                      </a:lnTo>
                      <a:lnTo>
                        <a:pt x="410" y="19"/>
                      </a:lnTo>
                      <a:lnTo>
                        <a:pt x="382" y="24"/>
                      </a:lnTo>
                      <a:lnTo>
                        <a:pt x="357" y="24"/>
                      </a:lnTo>
                      <a:lnTo>
                        <a:pt x="320" y="37"/>
                      </a:lnTo>
                      <a:lnTo>
                        <a:pt x="378" y="51"/>
                      </a:lnTo>
                      <a:lnTo>
                        <a:pt x="400" y="64"/>
                      </a:lnTo>
                      <a:lnTo>
                        <a:pt x="415" y="69"/>
                      </a:lnTo>
                      <a:lnTo>
                        <a:pt x="434" y="82"/>
                      </a:lnTo>
                      <a:lnTo>
                        <a:pt x="444" y="87"/>
                      </a:lnTo>
                      <a:lnTo>
                        <a:pt x="449" y="96"/>
                      </a:lnTo>
                      <a:lnTo>
                        <a:pt x="434" y="96"/>
                      </a:lnTo>
                      <a:lnTo>
                        <a:pt x="396" y="96"/>
                      </a:lnTo>
                      <a:lnTo>
                        <a:pt x="410" y="114"/>
                      </a:lnTo>
                      <a:lnTo>
                        <a:pt x="415" y="129"/>
                      </a:lnTo>
                      <a:lnTo>
                        <a:pt x="419" y="137"/>
                      </a:lnTo>
                      <a:lnTo>
                        <a:pt x="406" y="137"/>
                      </a:lnTo>
                      <a:lnTo>
                        <a:pt x="387" y="133"/>
                      </a:lnTo>
                      <a:lnTo>
                        <a:pt x="367" y="119"/>
                      </a:lnTo>
                      <a:lnTo>
                        <a:pt x="334" y="109"/>
                      </a:lnTo>
                      <a:lnTo>
                        <a:pt x="295" y="106"/>
                      </a:lnTo>
                      <a:lnTo>
                        <a:pt x="325" y="133"/>
                      </a:lnTo>
                      <a:lnTo>
                        <a:pt x="338" y="156"/>
                      </a:lnTo>
                      <a:lnTo>
                        <a:pt x="338" y="169"/>
                      </a:lnTo>
                      <a:lnTo>
                        <a:pt x="329" y="169"/>
                      </a:lnTo>
                      <a:lnTo>
                        <a:pt x="320" y="164"/>
                      </a:lnTo>
                      <a:lnTo>
                        <a:pt x="301" y="146"/>
                      </a:lnTo>
                      <a:lnTo>
                        <a:pt x="272" y="133"/>
                      </a:lnTo>
                      <a:lnTo>
                        <a:pt x="239" y="129"/>
                      </a:lnTo>
                      <a:lnTo>
                        <a:pt x="205" y="133"/>
                      </a:lnTo>
                      <a:lnTo>
                        <a:pt x="177" y="137"/>
                      </a:lnTo>
                      <a:lnTo>
                        <a:pt x="143" y="142"/>
                      </a:lnTo>
                      <a:lnTo>
                        <a:pt x="105" y="137"/>
                      </a:lnTo>
                      <a:lnTo>
                        <a:pt x="85" y="133"/>
                      </a:lnTo>
                      <a:lnTo>
                        <a:pt x="62" y="119"/>
                      </a:lnTo>
                      <a:lnTo>
                        <a:pt x="43" y="109"/>
                      </a:lnTo>
                      <a:lnTo>
                        <a:pt x="0" y="106"/>
                      </a:lnTo>
                      <a:lnTo>
                        <a:pt x="28" y="74"/>
                      </a:lnTo>
                      <a:lnTo>
                        <a:pt x="43" y="42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712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" name=""/>
                <p:cNvGrpSpPr/>
                <p:nvPr/>
              </p:nvGrpSpPr>
              <p:grpSpPr>
                <a:xfrm>
                  <a:off x="2525760" y="3975120"/>
                  <a:ext cx="549360" cy="235080"/>
                  <a:chOff x="2525760" y="3975120"/>
                  <a:chExt cx="549360" cy="23508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2855880" y="4054320"/>
                    <a:ext cx="903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6">
                        <a:moveTo>
                          <a:pt x="56" y="15"/>
                        </a:moveTo>
                        <a:lnTo>
                          <a:pt x="32" y="9"/>
                        </a:lnTo>
                        <a:lnTo>
                          <a:pt x="3" y="6"/>
                        </a:lnTo>
                        <a:lnTo>
                          <a:pt x="0" y="0"/>
                        </a:lnTo>
                        <a:lnTo>
                          <a:pt x="11" y="3"/>
                        </a:lnTo>
                        <a:lnTo>
                          <a:pt x="35" y="6"/>
                        </a:lnTo>
                        <a:lnTo>
                          <a:pt x="56" y="15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2847960" y="411480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8" y="4"/>
                        </a:move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8" y="4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2976480" y="4092480"/>
                    <a:ext cx="38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">
                        <a:moveTo>
                          <a:pt x="23" y="4"/>
                        </a:moveTo>
                        <a:lnTo>
                          <a:pt x="13" y="1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lnTo>
                          <a:pt x="23" y="4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2862360" y="3998880"/>
                    <a:ext cx="442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">
                        <a:moveTo>
                          <a:pt x="27" y="8"/>
                        </a:moveTo>
                        <a:lnTo>
                          <a:pt x="7" y="6"/>
                        </a:lnTo>
                        <a:lnTo>
                          <a:pt x="0" y="0"/>
                        </a:lnTo>
                        <a:lnTo>
                          <a:pt x="11" y="4"/>
                        </a:lnTo>
                        <a:lnTo>
                          <a:pt x="27" y="8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2922480" y="4200480"/>
                    <a:ext cx="18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036960" y="4141800"/>
                    <a:ext cx="3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1" y="1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068640" y="4086360"/>
                    <a:ext cx="64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3" y="8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3" y="8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030480" y="3975120"/>
                    <a:ext cx="144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8" y="5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525760" y="4019400"/>
                    <a:ext cx="46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8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0" y="37"/>
                        </a:lnTo>
                        <a:lnTo>
                          <a:pt x="2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" name=""/>
              <p:cNvGrpSpPr/>
              <p:nvPr/>
            </p:nvGrpSpPr>
            <p:grpSpPr>
              <a:xfrm>
                <a:off x="3254400" y="3919680"/>
                <a:ext cx="482400" cy="529920"/>
                <a:chOff x="3254400" y="3919680"/>
                <a:chExt cx="482400" cy="52992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3254400" y="3919680"/>
                  <a:ext cx="482400" cy="529920"/>
                  <a:chOff x="3254400" y="3919680"/>
                  <a:chExt cx="482400" cy="5299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3254400" y="4027320"/>
                    <a:ext cx="482400" cy="373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35">
                        <a:moveTo>
                          <a:pt x="83" y="5"/>
                        </a:moveTo>
                        <a:lnTo>
                          <a:pt x="149" y="14"/>
                        </a:lnTo>
                        <a:lnTo>
                          <a:pt x="197" y="10"/>
                        </a:lnTo>
                        <a:lnTo>
                          <a:pt x="230" y="27"/>
                        </a:lnTo>
                        <a:lnTo>
                          <a:pt x="260" y="42"/>
                        </a:lnTo>
                        <a:lnTo>
                          <a:pt x="283" y="50"/>
                        </a:lnTo>
                        <a:lnTo>
                          <a:pt x="294" y="60"/>
                        </a:lnTo>
                        <a:lnTo>
                          <a:pt x="303" y="69"/>
                        </a:lnTo>
                        <a:lnTo>
                          <a:pt x="303" y="82"/>
                        </a:lnTo>
                        <a:lnTo>
                          <a:pt x="294" y="92"/>
                        </a:lnTo>
                        <a:lnTo>
                          <a:pt x="283" y="105"/>
                        </a:lnTo>
                        <a:lnTo>
                          <a:pt x="298" y="137"/>
                        </a:lnTo>
                        <a:lnTo>
                          <a:pt x="298" y="152"/>
                        </a:lnTo>
                        <a:lnTo>
                          <a:pt x="279" y="165"/>
                        </a:lnTo>
                        <a:lnTo>
                          <a:pt x="288" y="174"/>
                        </a:lnTo>
                        <a:lnTo>
                          <a:pt x="288" y="187"/>
                        </a:lnTo>
                        <a:lnTo>
                          <a:pt x="283" y="197"/>
                        </a:lnTo>
                        <a:lnTo>
                          <a:pt x="273" y="202"/>
                        </a:lnTo>
                        <a:lnTo>
                          <a:pt x="273" y="220"/>
                        </a:lnTo>
                        <a:lnTo>
                          <a:pt x="264" y="224"/>
                        </a:lnTo>
                        <a:lnTo>
                          <a:pt x="235" y="229"/>
                        </a:lnTo>
                        <a:lnTo>
                          <a:pt x="220" y="234"/>
                        </a:lnTo>
                        <a:lnTo>
                          <a:pt x="197" y="229"/>
                        </a:lnTo>
                        <a:lnTo>
                          <a:pt x="192" y="220"/>
                        </a:lnTo>
                        <a:lnTo>
                          <a:pt x="168" y="215"/>
                        </a:lnTo>
                        <a:lnTo>
                          <a:pt x="158" y="215"/>
                        </a:lnTo>
                        <a:lnTo>
                          <a:pt x="154" y="207"/>
                        </a:lnTo>
                        <a:lnTo>
                          <a:pt x="139" y="192"/>
                        </a:lnTo>
                        <a:lnTo>
                          <a:pt x="139" y="184"/>
                        </a:lnTo>
                        <a:lnTo>
                          <a:pt x="145" y="174"/>
                        </a:lnTo>
                        <a:lnTo>
                          <a:pt x="96" y="156"/>
                        </a:lnTo>
                        <a:lnTo>
                          <a:pt x="77" y="152"/>
                        </a:lnTo>
                        <a:lnTo>
                          <a:pt x="58" y="147"/>
                        </a:lnTo>
                        <a:lnTo>
                          <a:pt x="49" y="137"/>
                        </a:lnTo>
                        <a:lnTo>
                          <a:pt x="34" y="115"/>
                        </a:lnTo>
                        <a:lnTo>
                          <a:pt x="20" y="87"/>
                        </a:lnTo>
                        <a:lnTo>
                          <a:pt x="0" y="60"/>
                        </a:lnTo>
                        <a:lnTo>
                          <a:pt x="11" y="37"/>
                        </a:lnTo>
                        <a:lnTo>
                          <a:pt x="30" y="14"/>
                        </a:lnTo>
                        <a:lnTo>
                          <a:pt x="49" y="0"/>
                        </a:lnTo>
                        <a:lnTo>
                          <a:pt x="83" y="5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3546360" y="4194000"/>
                    <a:ext cx="1666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6">
                        <a:moveTo>
                          <a:pt x="99" y="0"/>
                        </a:moveTo>
                        <a:lnTo>
                          <a:pt x="82" y="19"/>
                        </a:lnTo>
                        <a:lnTo>
                          <a:pt x="73" y="32"/>
                        </a:lnTo>
                        <a:lnTo>
                          <a:pt x="65" y="44"/>
                        </a:lnTo>
                        <a:lnTo>
                          <a:pt x="56" y="44"/>
                        </a:lnTo>
                        <a:lnTo>
                          <a:pt x="34" y="44"/>
                        </a:lnTo>
                        <a:lnTo>
                          <a:pt x="17" y="47"/>
                        </a:lnTo>
                        <a:lnTo>
                          <a:pt x="9" y="47"/>
                        </a:lnTo>
                        <a:lnTo>
                          <a:pt x="0" y="36"/>
                        </a:lnTo>
                        <a:lnTo>
                          <a:pt x="0" y="47"/>
                        </a:lnTo>
                        <a:lnTo>
                          <a:pt x="5" y="51"/>
                        </a:lnTo>
                        <a:lnTo>
                          <a:pt x="9" y="55"/>
                        </a:lnTo>
                        <a:lnTo>
                          <a:pt x="17" y="51"/>
                        </a:lnTo>
                        <a:lnTo>
                          <a:pt x="39" y="47"/>
                        </a:lnTo>
                        <a:lnTo>
                          <a:pt x="61" y="51"/>
                        </a:lnTo>
                        <a:lnTo>
                          <a:pt x="70" y="47"/>
                        </a:lnTo>
                        <a:lnTo>
                          <a:pt x="82" y="32"/>
                        </a:lnTo>
                        <a:lnTo>
                          <a:pt x="104" y="12"/>
                        </a:lnTo>
                        <a:lnTo>
                          <a:pt x="99" y="0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508200" y="4287960"/>
                    <a:ext cx="1969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38">
                        <a:moveTo>
                          <a:pt x="119" y="0"/>
                        </a:moveTo>
                        <a:lnTo>
                          <a:pt x="102" y="8"/>
                        </a:lnTo>
                        <a:lnTo>
                          <a:pt x="88" y="18"/>
                        </a:lnTo>
                        <a:lnTo>
                          <a:pt x="75" y="26"/>
                        </a:lnTo>
                        <a:lnTo>
                          <a:pt x="71" y="26"/>
                        </a:lnTo>
                        <a:lnTo>
                          <a:pt x="66" y="26"/>
                        </a:lnTo>
                        <a:lnTo>
                          <a:pt x="48" y="22"/>
                        </a:lnTo>
                        <a:lnTo>
                          <a:pt x="22" y="26"/>
                        </a:lnTo>
                        <a:lnTo>
                          <a:pt x="0" y="29"/>
                        </a:lnTo>
                        <a:lnTo>
                          <a:pt x="5" y="37"/>
                        </a:lnTo>
                        <a:lnTo>
                          <a:pt x="22" y="33"/>
                        </a:lnTo>
                        <a:lnTo>
                          <a:pt x="45" y="29"/>
                        </a:lnTo>
                        <a:lnTo>
                          <a:pt x="57" y="29"/>
                        </a:lnTo>
                        <a:lnTo>
                          <a:pt x="75" y="29"/>
                        </a:lnTo>
                        <a:lnTo>
                          <a:pt x="88" y="22"/>
                        </a:lnTo>
                        <a:lnTo>
                          <a:pt x="123" y="11"/>
                        </a:lnTo>
                        <a:lnTo>
                          <a:pt x="119" y="0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3508200" y="4070520"/>
                    <a:ext cx="16056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92">
                        <a:moveTo>
                          <a:pt x="100" y="46"/>
                        </a:moveTo>
                        <a:lnTo>
                          <a:pt x="83" y="50"/>
                        </a:lnTo>
                        <a:lnTo>
                          <a:pt x="78" y="63"/>
                        </a:lnTo>
                        <a:lnTo>
                          <a:pt x="61" y="83"/>
                        </a:lnTo>
                        <a:lnTo>
                          <a:pt x="70" y="91"/>
                        </a:lnTo>
                        <a:lnTo>
                          <a:pt x="56" y="88"/>
                        </a:lnTo>
                        <a:lnTo>
                          <a:pt x="44" y="91"/>
                        </a:lnTo>
                        <a:lnTo>
                          <a:pt x="39" y="70"/>
                        </a:lnTo>
                        <a:lnTo>
                          <a:pt x="39" y="54"/>
                        </a:lnTo>
                        <a:lnTo>
                          <a:pt x="35" y="41"/>
                        </a:lnTo>
                        <a:lnTo>
                          <a:pt x="30" y="34"/>
                        </a:lnTo>
                        <a:lnTo>
                          <a:pt x="17" y="34"/>
                        </a:lnTo>
                        <a:lnTo>
                          <a:pt x="5" y="29"/>
                        </a:lnTo>
                        <a:lnTo>
                          <a:pt x="0" y="9"/>
                        </a:lnTo>
                        <a:lnTo>
                          <a:pt x="13" y="21"/>
                        </a:lnTo>
                        <a:lnTo>
                          <a:pt x="27" y="0"/>
                        </a:lnTo>
                        <a:lnTo>
                          <a:pt x="22" y="21"/>
                        </a:lnTo>
                        <a:lnTo>
                          <a:pt x="39" y="16"/>
                        </a:lnTo>
                        <a:lnTo>
                          <a:pt x="44" y="29"/>
                        </a:lnTo>
                        <a:lnTo>
                          <a:pt x="70" y="41"/>
                        </a:lnTo>
                        <a:lnTo>
                          <a:pt x="100" y="46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3333600" y="417348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51">
                        <a:moveTo>
                          <a:pt x="148" y="27"/>
                        </a:moveTo>
                        <a:lnTo>
                          <a:pt x="148" y="38"/>
                        </a:lnTo>
                        <a:lnTo>
                          <a:pt x="143" y="46"/>
                        </a:lnTo>
                        <a:lnTo>
                          <a:pt x="134" y="46"/>
                        </a:lnTo>
                        <a:lnTo>
                          <a:pt x="120" y="38"/>
                        </a:lnTo>
                        <a:lnTo>
                          <a:pt x="116" y="27"/>
                        </a:lnTo>
                        <a:lnTo>
                          <a:pt x="108" y="15"/>
                        </a:lnTo>
                        <a:lnTo>
                          <a:pt x="111" y="4"/>
                        </a:lnTo>
                        <a:lnTo>
                          <a:pt x="102" y="11"/>
                        </a:lnTo>
                        <a:lnTo>
                          <a:pt x="85" y="7"/>
                        </a:lnTo>
                        <a:lnTo>
                          <a:pt x="67" y="11"/>
                        </a:lnTo>
                        <a:lnTo>
                          <a:pt x="49" y="15"/>
                        </a:lnTo>
                        <a:lnTo>
                          <a:pt x="22" y="11"/>
                        </a:lnTo>
                        <a:lnTo>
                          <a:pt x="0" y="0"/>
                        </a:lnTo>
                        <a:lnTo>
                          <a:pt x="32" y="19"/>
                        </a:lnTo>
                        <a:lnTo>
                          <a:pt x="53" y="23"/>
                        </a:lnTo>
                        <a:lnTo>
                          <a:pt x="76" y="19"/>
                        </a:lnTo>
                        <a:lnTo>
                          <a:pt x="99" y="19"/>
                        </a:lnTo>
                        <a:lnTo>
                          <a:pt x="108" y="27"/>
                        </a:lnTo>
                        <a:lnTo>
                          <a:pt x="116" y="42"/>
                        </a:lnTo>
                        <a:lnTo>
                          <a:pt x="130" y="50"/>
                        </a:lnTo>
                        <a:lnTo>
                          <a:pt x="143" y="50"/>
                        </a:lnTo>
                        <a:lnTo>
                          <a:pt x="148" y="42"/>
                        </a:lnTo>
                        <a:lnTo>
                          <a:pt x="148" y="27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559320" y="435456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1" y="4"/>
                        </a:moveTo>
                        <a:lnTo>
                          <a:pt x="2" y="3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529080" y="4303800"/>
                    <a:ext cx="46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4">
                        <a:moveTo>
                          <a:pt x="2" y="13"/>
                        </a:moveTo>
                        <a:lnTo>
                          <a:pt x="2" y="8"/>
                        </a:lnTo>
                        <a:lnTo>
                          <a:pt x="2" y="5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2" y="13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544920" y="420048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0">
                        <a:moveTo>
                          <a:pt x="1" y="0"/>
                        </a:move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1" y="5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3645000" y="4346640"/>
                    <a:ext cx="44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">
                        <a:moveTo>
                          <a:pt x="27" y="0"/>
                        </a:moveTo>
                        <a:lnTo>
                          <a:pt x="17" y="0"/>
                        </a:lnTo>
                        <a:lnTo>
                          <a:pt x="0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3591000" y="4368960"/>
                    <a:ext cx="30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">
                        <a:moveTo>
                          <a:pt x="18" y="0"/>
                        </a:moveTo>
                        <a:lnTo>
                          <a:pt x="15" y="0"/>
                        </a:lnTo>
                        <a:lnTo>
                          <a:pt x="0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492360" y="4295880"/>
                    <a:ext cx="241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">
                        <a:moveTo>
                          <a:pt x="14" y="0"/>
                        </a:move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448080" y="4229280"/>
                    <a:ext cx="92160" cy="2203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39">
                        <a:moveTo>
                          <a:pt x="57" y="18"/>
                        </a:moveTo>
                        <a:lnTo>
                          <a:pt x="21" y="126"/>
                        </a:lnTo>
                        <a:lnTo>
                          <a:pt x="3" y="138"/>
                        </a:lnTo>
                        <a:lnTo>
                          <a:pt x="0" y="121"/>
                        </a:lnTo>
                        <a:lnTo>
                          <a:pt x="40" y="0"/>
                        </a:lnTo>
                        <a:lnTo>
                          <a:pt x="44" y="9"/>
                        </a:lnTo>
                        <a:lnTo>
                          <a:pt x="57" y="18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3570120" y="3919680"/>
                    <a:ext cx="10512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41">
                        <a:moveTo>
                          <a:pt x="0" y="114"/>
                        </a:moveTo>
                        <a:lnTo>
                          <a:pt x="45" y="0"/>
                        </a:lnTo>
                        <a:lnTo>
                          <a:pt x="57" y="0"/>
                        </a:lnTo>
                        <a:lnTo>
                          <a:pt x="65" y="8"/>
                        </a:lnTo>
                        <a:lnTo>
                          <a:pt x="20" y="140"/>
                        </a:lnTo>
                        <a:lnTo>
                          <a:pt x="0" y="114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" name=""/>
                <p:cNvSpPr/>
                <p:nvPr/>
              </p:nvSpPr>
              <p:spPr>
                <a:xfrm>
                  <a:off x="3576600" y="3924360"/>
                  <a:ext cx="92160" cy="226800"/>
                </a:xfrm>
                <a:custGeom>
                  <a:avLst/>
                  <a:gdLst/>
                  <a:ahLst/>
                  <a:rect l="l" t="t" r="r" b="b"/>
                  <a:pathLst>
                    <a:path w="58" h="143">
                      <a:moveTo>
                        <a:pt x="57" y="4"/>
                      </a:moveTo>
                      <a:lnTo>
                        <a:pt x="49" y="0"/>
                      </a:lnTo>
                      <a:lnTo>
                        <a:pt x="41" y="0"/>
                      </a:lnTo>
                      <a:lnTo>
                        <a:pt x="0" y="121"/>
                      </a:lnTo>
                      <a:lnTo>
                        <a:pt x="5" y="142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712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454560" y="4237200"/>
                  <a:ext cx="75960" cy="198360"/>
                </a:xfrm>
                <a:custGeom>
                  <a:avLst/>
                  <a:gdLst/>
                  <a:ahLst/>
                  <a:rect l="l" t="t" r="r" b="b"/>
                  <a:pathLst>
                    <a:path w="48" h="125">
                      <a:moveTo>
                        <a:pt x="39" y="0"/>
                      </a:moveTo>
                      <a:lnTo>
                        <a:pt x="0" y="115"/>
                      </a:lnTo>
                      <a:lnTo>
                        <a:pt x="0" y="124"/>
                      </a:lnTo>
                      <a:lnTo>
                        <a:pt x="12" y="120"/>
                      </a:lnTo>
                      <a:lnTo>
                        <a:pt x="47" y="13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712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" name=""/>
            <p:cNvGrpSpPr/>
            <p:nvPr/>
          </p:nvGrpSpPr>
          <p:grpSpPr>
            <a:xfrm>
              <a:off x="1935000" y="1911240"/>
              <a:ext cx="981360" cy="1360440"/>
              <a:chOff x="1935000" y="1911240"/>
              <a:chExt cx="981360" cy="1360440"/>
            </a:xfrm>
          </p:grpSpPr>
          <p:sp>
            <p:nvSpPr>
              <p:cNvPr id="121" name=""/>
              <p:cNvSpPr/>
              <p:nvPr/>
            </p:nvSpPr>
            <p:spPr>
              <a:xfrm>
                <a:off x="1935000" y="1911240"/>
                <a:ext cx="981360" cy="1360440"/>
              </a:xfrm>
              <a:custGeom>
                <a:avLst/>
                <a:gdLst/>
                <a:ahLst/>
                <a:rect l="l" t="t" r="r" b="b"/>
                <a:pathLst>
                  <a:path w="618" h="857">
                    <a:moveTo>
                      <a:pt x="559" y="137"/>
                    </a:moveTo>
                    <a:lnTo>
                      <a:pt x="589" y="147"/>
                    </a:lnTo>
                    <a:lnTo>
                      <a:pt x="608" y="178"/>
                    </a:lnTo>
                    <a:lnTo>
                      <a:pt x="617" y="210"/>
                    </a:lnTo>
                    <a:lnTo>
                      <a:pt x="617" y="233"/>
                    </a:lnTo>
                    <a:lnTo>
                      <a:pt x="608" y="257"/>
                    </a:lnTo>
                    <a:lnTo>
                      <a:pt x="608" y="279"/>
                    </a:lnTo>
                    <a:lnTo>
                      <a:pt x="602" y="302"/>
                    </a:lnTo>
                    <a:lnTo>
                      <a:pt x="579" y="334"/>
                    </a:lnTo>
                    <a:lnTo>
                      <a:pt x="570" y="371"/>
                    </a:lnTo>
                    <a:lnTo>
                      <a:pt x="559" y="407"/>
                    </a:lnTo>
                    <a:lnTo>
                      <a:pt x="540" y="439"/>
                    </a:lnTo>
                    <a:lnTo>
                      <a:pt x="527" y="499"/>
                    </a:lnTo>
                    <a:lnTo>
                      <a:pt x="517" y="567"/>
                    </a:lnTo>
                    <a:lnTo>
                      <a:pt x="521" y="627"/>
                    </a:lnTo>
                    <a:lnTo>
                      <a:pt x="521" y="646"/>
                    </a:lnTo>
                    <a:lnTo>
                      <a:pt x="464" y="618"/>
                    </a:lnTo>
                    <a:lnTo>
                      <a:pt x="412" y="596"/>
                    </a:lnTo>
                    <a:lnTo>
                      <a:pt x="373" y="559"/>
                    </a:lnTo>
                    <a:lnTo>
                      <a:pt x="173" y="651"/>
                    </a:lnTo>
                    <a:lnTo>
                      <a:pt x="149" y="737"/>
                    </a:lnTo>
                    <a:lnTo>
                      <a:pt x="143" y="796"/>
                    </a:lnTo>
                    <a:lnTo>
                      <a:pt x="115" y="792"/>
                    </a:lnTo>
                    <a:lnTo>
                      <a:pt x="105" y="819"/>
                    </a:lnTo>
                    <a:lnTo>
                      <a:pt x="81" y="815"/>
                    </a:lnTo>
                    <a:lnTo>
                      <a:pt x="62" y="843"/>
                    </a:lnTo>
                    <a:lnTo>
                      <a:pt x="47" y="824"/>
                    </a:lnTo>
                    <a:lnTo>
                      <a:pt x="19" y="856"/>
                    </a:lnTo>
                    <a:lnTo>
                      <a:pt x="19" y="760"/>
                    </a:lnTo>
                    <a:lnTo>
                      <a:pt x="28" y="664"/>
                    </a:lnTo>
                    <a:lnTo>
                      <a:pt x="34" y="604"/>
                    </a:lnTo>
                    <a:lnTo>
                      <a:pt x="43" y="544"/>
                    </a:lnTo>
                    <a:lnTo>
                      <a:pt x="0" y="544"/>
                    </a:lnTo>
                    <a:lnTo>
                      <a:pt x="43" y="457"/>
                    </a:lnTo>
                    <a:lnTo>
                      <a:pt x="53" y="389"/>
                    </a:lnTo>
                    <a:lnTo>
                      <a:pt x="58" y="352"/>
                    </a:lnTo>
                    <a:lnTo>
                      <a:pt x="62" y="312"/>
                    </a:lnTo>
                    <a:lnTo>
                      <a:pt x="72" y="270"/>
                    </a:lnTo>
                    <a:lnTo>
                      <a:pt x="90" y="233"/>
                    </a:lnTo>
                    <a:lnTo>
                      <a:pt x="109" y="183"/>
                    </a:lnTo>
                    <a:lnTo>
                      <a:pt x="134" y="133"/>
                    </a:lnTo>
                    <a:lnTo>
                      <a:pt x="167" y="73"/>
                    </a:lnTo>
                    <a:lnTo>
                      <a:pt x="235" y="27"/>
                    </a:lnTo>
                    <a:lnTo>
                      <a:pt x="297" y="10"/>
                    </a:lnTo>
                    <a:lnTo>
                      <a:pt x="359" y="0"/>
                    </a:lnTo>
                    <a:lnTo>
                      <a:pt x="412" y="0"/>
                    </a:lnTo>
                    <a:lnTo>
                      <a:pt x="474" y="18"/>
                    </a:lnTo>
                    <a:lnTo>
                      <a:pt x="512" y="45"/>
                    </a:lnTo>
                    <a:lnTo>
                      <a:pt x="536" y="82"/>
                    </a:lnTo>
                    <a:lnTo>
                      <a:pt x="536" y="119"/>
                    </a:lnTo>
                    <a:lnTo>
                      <a:pt x="559" y="13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1996920" y="1947960"/>
                <a:ext cx="889200" cy="1272960"/>
                <a:chOff x="1996920" y="1947960"/>
                <a:chExt cx="889200" cy="12729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558880" y="2144880"/>
                  <a:ext cx="327240" cy="763560"/>
                </a:xfrm>
                <a:custGeom>
                  <a:avLst/>
                  <a:gdLst/>
                  <a:ahLst/>
                  <a:rect l="l" t="t" r="r" b="b"/>
                  <a:pathLst>
                    <a:path w="206" h="481">
                      <a:moveTo>
                        <a:pt x="196" y="22"/>
                      </a:moveTo>
                      <a:lnTo>
                        <a:pt x="205" y="54"/>
                      </a:lnTo>
                      <a:lnTo>
                        <a:pt x="205" y="94"/>
                      </a:lnTo>
                      <a:lnTo>
                        <a:pt x="200" y="125"/>
                      </a:lnTo>
                      <a:lnTo>
                        <a:pt x="196" y="152"/>
                      </a:lnTo>
                      <a:lnTo>
                        <a:pt x="178" y="179"/>
                      </a:lnTo>
                      <a:lnTo>
                        <a:pt x="164" y="215"/>
                      </a:lnTo>
                      <a:lnTo>
                        <a:pt x="155" y="247"/>
                      </a:lnTo>
                      <a:lnTo>
                        <a:pt x="141" y="274"/>
                      </a:lnTo>
                      <a:lnTo>
                        <a:pt x="119" y="331"/>
                      </a:lnTo>
                      <a:lnTo>
                        <a:pt x="109" y="426"/>
                      </a:lnTo>
                      <a:lnTo>
                        <a:pt x="114" y="480"/>
                      </a:lnTo>
                      <a:lnTo>
                        <a:pt x="28" y="440"/>
                      </a:lnTo>
                      <a:lnTo>
                        <a:pt x="0" y="409"/>
                      </a:lnTo>
                      <a:lnTo>
                        <a:pt x="19" y="345"/>
                      </a:lnTo>
                      <a:lnTo>
                        <a:pt x="119" y="67"/>
                      </a:lnTo>
                      <a:lnTo>
                        <a:pt x="100" y="76"/>
                      </a:lnTo>
                      <a:lnTo>
                        <a:pt x="105" y="67"/>
                      </a:lnTo>
                      <a:lnTo>
                        <a:pt x="87" y="67"/>
                      </a:lnTo>
                      <a:lnTo>
                        <a:pt x="119" y="49"/>
                      </a:lnTo>
                      <a:lnTo>
                        <a:pt x="128" y="35"/>
                      </a:lnTo>
                      <a:lnTo>
                        <a:pt x="150" y="22"/>
                      </a:lnTo>
                      <a:lnTo>
                        <a:pt x="159" y="0"/>
                      </a:lnTo>
                      <a:lnTo>
                        <a:pt x="173" y="8"/>
                      </a:lnTo>
                      <a:lnTo>
                        <a:pt x="196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021040" y="1947960"/>
                  <a:ext cx="766440" cy="1076400"/>
                </a:xfrm>
                <a:custGeom>
                  <a:avLst/>
                  <a:gdLst/>
                  <a:ahLst/>
                  <a:rect l="l" t="t" r="r" b="b"/>
                  <a:pathLst>
                    <a:path w="483" h="678">
                      <a:moveTo>
                        <a:pt x="473" y="68"/>
                      </a:moveTo>
                      <a:lnTo>
                        <a:pt x="477" y="104"/>
                      </a:lnTo>
                      <a:lnTo>
                        <a:pt x="482" y="131"/>
                      </a:lnTo>
                      <a:lnTo>
                        <a:pt x="454" y="153"/>
                      </a:lnTo>
                      <a:lnTo>
                        <a:pt x="416" y="162"/>
                      </a:lnTo>
                      <a:lnTo>
                        <a:pt x="392" y="172"/>
                      </a:lnTo>
                      <a:lnTo>
                        <a:pt x="374" y="180"/>
                      </a:lnTo>
                      <a:lnTo>
                        <a:pt x="388" y="167"/>
                      </a:lnTo>
                      <a:lnTo>
                        <a:pt x="355" y="158"/>
                      </a:lnTo>
                      <a:lnTo>
                        <a:pt x="318" y="150"/>
                      </a:lnTo>
                      <a:lnTo>
                        <a:pt x="351" y="140"/>
                      </a:lnTo>
                      <a:lnTo>
                        <a:pt x="304" y="140"/>
                      </a:lnTo>
                      <a:lnTo>
                        <a:pt x="331" y="126"/>
                      </a:lnTo>
                      <a:lnTo>
                        <a:pt x="267" y="126"/>
                      </a:lnTo>
                      <a:lnTo>
                        <a:pt x="285" y="113"/>
                      </a:lnTo>
                      <a:lnTo>
                        <a:pt x="234" y="131"/>
                      </a:lnTo>
                      <a:lnTo>
                        <a:pt x="215" y="190"/>
                      </a:lnTo>
                      <a:lnTo>
                        <a:pt x="191" y="226"/>
                      </a:lnTo>
                      <a:lnTo>
                        <a:pt x="168" y="258"/>
                      </a:lnTo>
                      <a:lnTo>
                        <a:pt x="164" y="234"/>
                      </a:lnTo>
                      <a:lnTo>
                        <a:pt x="164" y="207"/>
                      </a:lnTo>
                      <a:lnTo>
                        <a:pt x="182" y="158"/>
                      </a:lnTo>
                      <a:lnTo>
                        <a:pt x="149" y="207"/>
                      </a:lnTo>
                      <a:lnTo>
                        <a:pt x="168" y="150"/>
                      </a:lnTo>
                      <a:lnTo>
                        <a:pt x="178" y="122"/>
                      </a:lnTo>
                      <a:lnTo>
                        <a:pt x="155" y="145"/>
                      </a:lnTo>
                      <a:lnTo>
                        <a:pt x="136" y="194"/>
                      </a:lnTo>
                      <a:lnTo>
                        <a:pt x="112" y="204"/>
                      </a:lnTo>
                      <a:lnTo>
                        <a:pt x="98" y="226"/>
                      </a:lnTo>
                      <a:lnTo>
                        <a:pt x="88" y="253"/>
                      </a:lnTo>
                      <a:lnTo>
                        <a:pt x="98" y="290"/>
                      </a:lnTo>
                      <a:lnTo>
                        <a:pt x="88" y="339"/>
                      </a:lnTo>
                      <a:lnTo>
                        <a:pt x="88" y="447"/>
                      </a:lnTo>
                      <a:lnTo>
                        <a:pt x="88" y="519"/>
                      </a:lnTo>
                      <a:lnTo>
                        <a:pt x="88" y="578"/>
                      </a:lnTo>
                      <a:lnTo>
                        <a:pt x="61" y="673"/>
                      </a:lnTo>
                      <a:lnTo>
                        <a:pt x="65" y="573"/>
                      </a:lnTo>
                      <a:lnTo>
                        <a:pt x="61" y="483"/>
                      </a:lnTo>
                      <a:lnTo>
                        <a:pt x="42" y="596"/>
                      </a:lnTo>
                      <a:lnTo>
                        <a:pt x="0" y="677"/>
                      </a:lnTo>
                      <a:lnTo>
                        <a:pt x="28" y="578"/>
                      </a:lnTo>
                      <a:lnTo>
                        <a:pt x="28" y="483"/>
                      </a:lnTo>
                      <a:lnTo>
                        <a:pt x="33" y="374"/>
                      </a:lnTo>
                      <a:lnTo>
                        <a:pt x="33" y="293"/>
                      </a:lnTo>
                      <a:lnTo>
                        <a:pt x="52" y="234"/>
                      </a:lnTo>
                      <a:lnTo>
                        <a:pt x="70" y="194"/>
                      </a:lnTo>
                      <a:lnTo>
                        <a:pt x="88" y="135"/>
                      </a:lnTo>
                      <a:lnTo>
                        <a:pt x="116" y="86"/>
                      </a:lnTo>
                      <a:lnTo>
                        <a:pt x="140" y="64"/>
                      </a:lnTo>
                      <a:lnTo>
                        <a:pt x="178" y="36"/>
                      </a:lnTo>
                      <a:lnTo>
                        <a:pt x="224" y="14"/>
                      </a:lnTo>
                      <a:lnTo>
                        <a:pt x="267" y="0"/>
                      </a:lnTo>
                      <a:lnTo>
                        <a:pt x="322" y="0"/>
                      </a:lnTo>
                      <a:lnTo>
                        <a:pt x="379" y="0"/>
                      </a:lnTo>
                      <a:lnTo>
                        <a:pt x="421" y="22"/>
                      </a:lnTo>
                      <a:lnTo>
                        <a:pt x="449" y="41"/>
                      </a:lnTo>
                      <a:lnTo>
                        <a:pt x="473" y="6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149560" y="2506680"/>
                  <a:ext cx="68040" cy="635040"/>
                </a:xfrm>
                <a:custGeom>
                  <a:avLst/>
                  <a:gdLst/>
                  <a:ahLst/>
                  <a:rect l="l" t="t" r="r" b="b"/>
                  <a:pathLst>
                    <a:path w="43" h="400">
                      <a:moveTo>
                        <a:pt x="8" y="399"/>
                      </a:moveTo>
                      <a:lnTo>
                        <a:pt x="12" y="354"/>
                      </a:lnTo>
                      <a:lnTo>
                        <a:pt x="27" y="282"/>
                      </a:lnTo>
                      <a:lnTo>
                        <a:pt x="42" y="216"/>
                      </a:lnTo>
                      <a:lnTo>
                        <a:pt x="42" y="184"/>
                      </a:lnTo>
                      <a:lnTo>
                        <a:pt x="34" y="107"/>
                      </a:lnTo>
                      <a:lnTo>
                        <a:pt x="27" y="54"/>
                      </a:lnTo>
                      <a:lnTo>
                        <a:pt x="19" y="0"/>
                      </a:lnTo>
                      <a:lnTo>
                        <a:pt x="19" y="81"/>
                      </a:lnTo>
                      <a:lnTo>
                        <a:pt x="19" y="166"/>
                      </a:lnTo>
                      <a:lnTo>
                        <a:pt x="19" y="224"/>
                      </a:lnTo>
                      <a:lnTo>
                        <a:pt x="12" y="282"/>
                      </a:lnTo>
                      <a:lnTo>
                        <a:pt x="0" y="345"/>
                      </a:lnTo>
                      <a:lnTo>
                        <a:pt x="8" y="39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065320" y="2906640"/>
                  <a:ext cx="38160" cy="263520"/>
                </a:xfrm>
                <a:custGeom>
                  <a:avLst/>
                  <a:gdLst/>
                  <a:ahLst/>
                  <a:rect l="l" t="t" r="r" b="b"/>
                  <a:pathLst>
                    <a:path w="24" h="166">
                      <a:moveTo>
                        <a:pt x="23" y="165"/>
                      </a:moveTo>
                      <a:lnTo>
                        <a:pt x="17" y="118"/>
                      </a:lnTo>
                      <a:lnTo>
                        <a:pt x="13" y="78"/>
                      </a:lnTo>
                      <a:lnTo>
                        <a:pt x="17" y="31"/>
                      </a:lnTo>
                      <a:lnTo>
                        <a:pt x="19" y="0"/>
                      </a:lnTo>
                      <a:lnTo>
                        <a:pt x="10" y="61"/>
                      </a:lnTo>
                      <a:lnTo>
                        <a:pt x="0" y="108"/>
                      </a:lnTo>
                      <a:lnTo>
                        <a:pt x="23" y="16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027160" y="2979720"/>
                  <a:ext cx="38160" cy="225360"/>
                </a:xfrm>
                <a:custGeom>
                  <a:avLst/>
                  <a:gdLst/>
                  <a:ahLst/>
                  <a:rect l="l" t="t" r="r" b="b"/>
                  <a:pathLst>
                    <a:path w="24" h="142">
                      <a:moveTo>
                        <a:pt x="10" y="141"/>
                      </a:moveTo>
                      <a:lnTo>
                        <a:pt x="10" y="115"/>
                      </a:lnTo>
                      <a:lnTo>
                        <a:pt x="7" y="73"/>
                      </a:lnTo>
                      <a:lnTo>
                        <a:pt x="14" y="30"/>
                      </a:lnTo>
                      <a:lnTo>
                        <a:pt x="23" y="0"/>
                      </a:lnTo>
                      <a:lnTo>
                        <a:pt x="0" y="51"/>
                      </a:lnTo>
                      <a:lnTo>
                        <a:pt x="0" y="77"/>
                      </a:lnTo>
                      <a:lnTo>
                        <a:pt x="10" y="14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996920" y="2762280"/>
                  <a:ext cx="38160" cy="458640"/>
                </a:xfrm>
                <a:custGeom>
                  <a:avLst/>
                  <a:gdLst/>
                  <a:ahLst/>
                  <a:rect l="l" t="t" r="r" b="b"/>
                  <a:pathLst>
                    <a:path w="24" h="289">
                      <a:moveTo>
                        <a:pt x="4" y="288"/>
                      </a:moveTo>
                      <a:lnTo>
                        <a:pt x="6" y="248"/>
                      </a:lnTo>
                      <a:lnTo>
                        <a:pt x="6" y="213"/>
                      </a:lnTo>
                      <a:lnTo>
                        <a:pt x="4" y="164"/>
                      </a:lnTo>
                      <a:lnTo>
                        <a:pt x="17" y="106"/>
                      </a:lnTo>
                      <a:lnTo>
                        <a:pt x="23" y="66"/>
                      </a:lnTo>
                      <a:lnTo>
                        <a:pt x="23" y="8"/>
                      </a:lnTo>
                      <a:lnTo>
                        <a:pt x="23" y="0"/>
                      </a:lnTo>
                      <a:lnTo>
                        <a:pt x="10" y="66"/>
                      </a:lnTo>
                      <a:lnTo>
                        <a:pt x="10" y="111"/>
                      </a:lnTo>
                      <a:lnTo>
                        <a:pt x="4" y="155"/>
                      </a:lnTo>
                      <a:lnTo>
                        <a:pt x="0" y="239"/>
                      </a:lnTo>
                      <a:lnTo>
                        <a:pt x="4" y="28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2170080" y="2165400"/>
              <a:ext cx="617400" cy="830160"/>
              <a:chOff x="2170080" y="2165400"/>
              <a:chExt cx="617400" cy="83016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2170080" y="2165400"/>
                <a:ext cx="617400" cy="830160"/>
                <a:chOff x="2170080" y="2165400"/>
                <a:chExt cx="617400" cy="83016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2200320" y="2593800"/>
                  <a:ext cx="290520" cy="401760"/>
                  <a:chOff x="2200320" y="2593800"/>
                  <a:chExt cx="290520" cy="4017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2200320" y="2593800"/>
                    <a:ext cx="2905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253">
                        <a:moveTo>
                          <a:pt x="182" y="142"/>
                        </a:moveTo>
                        <a:lnTo>
                          <a:pt x="177" y="202"/>
                        </a:lnTo>
                        <a:lnTo>
                          <a:pt x="158" y="225"/>
                        </a:lnTo>
                        <a:lnTo>
                          <a:pt x="120" y="244"/>
                        </a:lnTo>
                        <a:lnTo>
                          <a:pt x="90" y="252"/>
                        </a:lnTo>
                        <a:lnTo>
                          <a:pt x="53" y="252"/>
                        </a:lnTo>
                        <a:lnTo>
                          <a:pt x="24" y="244"/>
                        </a:lnTo>
                        <a:lnTo>
                          <a:pt x="0" y="225"/>
                        </a:lnTo>
                        <a:lnTo>
                          <a:pt x="19" y="147"/>
                        </a:lnTo>
                        <a:lnTo>
                          <a:pt x="19" y="97"/>
                        </a:lnTo>
                        <a:lnTo>
                          <a:pt x="15" y="60"/>
                        </a:lnTo>
                        <a:lnTo>
                          <a:pt x="9" y="0"/>
                        </a:lnTo>
                        <a:lnTo>
                          <a:pt x="182" y="142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2376360" y="2870280"/>
                    <a:ext cx="525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69">
                        <a:moveTo>
                          <a:pt x="32" y="0"/>
                        </a:moveTo>
                        <a:lnTo>
                          <a:pt x="22" y="17"/>
                        </a:lnTo>
                        <a:lnTo>
                          <a:pt x="15" y="37"/>
                        </a:lnTo>
                        <a:lnTo>
                          <a:pt x="4" y="56"/>
                        </a:lnTo>
                        <a:lnTo>
                          <a:pt x="0" y="68"/>
                        </a:lnTo>
                        <a:lnTo>
                          <a:pt x="18" y="41"/>
                        </a:lnTo>
                        <a:lnTo>
                          <a:pt x="29" y="17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2170080" y="2165400"/>
                  <a:ext cx="617400" cy="677880"/>
                  <a:chOff x="2170080" y="2165400"/>
                  <a:chExt cx="617400" cy="6778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2170080" y="2165400"/>
                    <a:ext cx="617400" cy="67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427">
                        <a:moveTo>
                          <a:pt x="383" y="64"/>
                        </a:moveTo>
                        <a:lnTo>
                          <a:pt x="388" y="128"/>
                        </a:lnTo>
                        <a:lnTo>
                          <a:pt x="383" y="160"/>
                        </a:lnTo>
                        <a:lnTo>
                          <a:pt x="369" y="192"/>
                        </a:lnTo>
                        <a:lnTo>
                          <a:pt x="364" y="224"/>
                        </a:lnTo>
                        <a:lnTo>
                          <a:pt x="360" y="252"/>
                        </a:lnTo>
                        <a:lnTo>
                          <a:pt x="349" y="274"/>
                        </a:lnTo>
                        <a:lnTo>
                          <a:pt x="330" y="294"/>
                        </a:lnTo>
                        <a:lnTo>
                          <a:pt x="311" y="311"/>
                        </a:lnTo>
                        <a:lnTo>
                          <a:pt x="296" y="329"/>
                        </a:lnTo>
                        <a:lnTo>
                          <a:pt x="277" y="348"/>
                        </a:lnTo>
                        <a:lnTo>
                          <a:pt x="258" y="371"/>
                        </a:lnTo>
                        <a:lnTo>
                          <a:pt x="234" y="394"/>
                        </a:lnTo>
                        <a:lnTo>
                          <a:pt x="215" y="407"/>
                        </a:lnTo>
                        <a:lnTo>
                          <a:pt x="196" y="416"/>
                        </a:lnTo>
                        <a:lnTo>
                          <a:pt x="172" y="426"/>
                        </a:lnTo>
                        <a:lnTo>
                          <a:pt x="158" y="426"/>
                        </a:lnTo>
                        <a:lnTo>
                          <a:pt x="143" y="421"/>
                        </a:lnTo>
                        <a:lnTo>
                          <a:pt x="124" y="412"/>
                        </a:lnTo>
                        <a:lnTo>
                          <a:pt x="100" y="394"/>
                        </a:lnTo>
                        <a:lnTo>
                          <a:pt x="66" y="352"/>
                        </a:lnTo>
                        <a:lnTo>
                          <a:pt x="38" y="311"/>
                        </a:lnTo>
                        <a:lnTo>
                          <a:pt x="28" y="289"/>
                        </a:lnTo>
                        <a:lnTo>
                          <a:pt x="24" y="261"/>
                        </a:lnTo>
                        <a:lnTo>
                          <a:pt x="19" y="220"/>
                        </a:lnTo>
                        <a:lnTo>
                          <a:pt x="19" y="184"/>
                        </a:lnTo>
                        <a:lnTo>
                          <a:pt x="9" y="174"/>
                        </a:lnTo>
                        <a:lnTo>
                          <a:pt x="4" y="156"/>
                        </a:lnTo>
                        <a:lnTo>
                          <a:pt x="0" y="142"/>
                        </a:lnTo>
                        <a:lnTo>
                          <a:pt x="0" y="115"/>
                        </a:lnTo>
                        <a:lnTo>
                          <a:pt x="4" y="97"/>
                        </a:lnTo>
                        <a:lnTo>
                          <a:pt x="19" y="78"/>
                        </a:lnTo>
                        <a:lnTo>
                          <a:pt x="38" y="73"/>
                        </a:lnTo>
                        <a:lnTo>
                          <a:pt x="47" y="92"/>
                        </a:lnTo>
                        <a:lnTo>
                          <a:pt x="62" y="137"/>
                        </a:lnTo>
                        <a:lnTo>
                          <a:pt x="100" y="97"/>
                        </a:lnTo>
                        <a:lnTo>
                          <a:pt x="119" y="69"/>
                        </a:lnTo>
                        <a:lnTo>
                          <a:pt x="139" y="42"/>
                        </a:lnTo>
                        <a:lnTo>
                          <a:pt x="149" y="18"/>
                        </a:lnTo>
                        <a:lnTo>
                          <a:pt x="158" y="5"/>
                        </a:lnTo>
                        <a:lnTo>
                          <a:pt x="187" y="0"/>
                        </a:lnTo>
                        <a:lnTo>
                          <a:pt x="201" y="5"/>
                        </a:lnTo>
                        <a:lnTo>
                          <a:pt x="215" y="18"/>
                        </a:lnTo>
                        <a:lnTo>
                          <a:pt x="239" y="27"/>
                        </a:lnTo>
                        <a:lnTo>
                          <a:pt x="277" y="37"/>
                        </a:lnTo>
                        <a:lnTo>
                          <a:pt x="273" y="45"/>
                        </a:lnTo>
                        <a:lnTo>
                          <a:pt x="230" y="60"/>
                        </a:lnTo>
                        <a:lnTo>
                          <a:pt x="273" y="50"/>
                        </a:lnTo>
                        <a:lnTo>
                          <a:pt x="301" y="42"/>
                        </a:lnTo>
                        <a:lnTo>
                          <a:pt x="339" y="42"/>
                        </a:lnTo>
                        <a:lnTo>
                          <a:pt x="277" y="82"/>
                        </a:lnTo>
                        <a:lnTo>
                          <a:pt x="354" y="50"/>
                        </a:lnTo>
                        <a:lnTo>
                          <a:pt x="307" y="78"/>
                        </a:lnTo>
                        <a:lnTo>
                          <a:pt x="379" y="55"/>
                        </a:lnTo>
                        <a:lnTo>
                          <a:pt x="345" y="82"/>
                        </a:lnTo>
                        <a:lnTo>
                          <a:pt x="383" y="64"/>
                        </a:lnTo>
                      </a:path>
                    </a:pathLst>
                  </a:custGeom>
                  <a:solidFill>
                    <a:srgbClr val="712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2203560" y="2303640"/>
                    <a:ext cx="560160" cy="414000"/>
                    <a:chOff x="2203560" y="2303640"/>
                    <a:chExt cx="560160" cy="41400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2203560" y="2303640"/>
                      <a:ext cx="38160" cy="10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69">
                          <a:moveTo>
                            <a:pt x="23" y="16"/>
                          </a:moveTo>
                          <a:lnTo>
                            <a:pt x="17" y="4"/>
                          </a:lnTo>
                          <a:lnTo>
                            <a:pt x="13" y="0"/>
                          </a:lnTo>
                          <a:lnTo>
                            <a:pt x="3" y="16"/>
                          </a:lnTo>
                          <a:lnTo>
                            <a:pt x="0" y="40"/>
                          </a:lnTo>
                          <a:lnTo>
                            <a:pt x="3" y="64"/>
                          </a:lnTo>
                          <a:lnTo>
                            <a:pt x="10" y="68"/>
                          </a:lnTo>
                          <a:lnTo>
                            <a:pt x="3" y="48"/>
                          </a:lnTo>
                          <a:lnTo>
                            <a:pt x="3" y="28"/>
                          </a:lnTo>
                          <a:lnTo>
                            <a:pt x="10" y="16"/>
                          </a:lnTo>
                          <a:lnTo>
                            <a:pt x="23" y="16"/>
                          </a:lnTo>
                        </a:path>
                      </a:pathLst>
                    </a:custGeom>
                    <a:solidFill>
                      <a:srgbClr val="712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8" name=""/>
                    <p:cNvGrpSpPr/>
                    <p:nvPr/>
                  </p:nvGrpSpPr>
                  <p:grpSpPr>
                    <a:xfrm>
                      <a:off x="2400480" y="2319480"/>
                      <a:ext cx="363240" cy="398160"/>
                      <a:chOff x="2400480" y="2319480"/>
                      <a:chExt cx="363240" cy="398160"/>
                    </a:xfrm>
                  </p:grpSpPr>
                  <p:sp>
                    <p:nvSpPr>
                      <p:cNvPr id="139" name=""/>
                      <p:cNvSpPr/>
                      <p:nvPr/>
                    </p:nvSpPr>
                    <p:spPr>
                      <a:xfrm>
                        <a:off x="2400480" y="2652840"/>
                        <a:ext cx="142560" cy="4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28">
                            <a:moveTo>
                              <a:pt x="89" y="20"/>
                            </a:moveTo>
                            <a:lnTo>
                              <a:pt x="81" y="24"/>
                            </a:lnTo>
                            <a:lnTo>
                              <a:pt x="77" y="17"/>
                            </a:lnTo>
                            <a:lnTo>
                              <a:pt x="72" y="10"/>
                            </a:lnTo>
                            <a:lnTo>
                              <a:pt x="64" y="10"/>
                            </a:lnTo>
                            <a:lnTo>
                              <a:pt x="55" y="7"/>
                            </a:lnTo>
                            <a:lnTo>
                              <a:pt x="47" y="3"/>
                            </a:lnTo>
                            <a:lnTo>
                              <a:pt x="34" y="3"/>
                            </a:lnTo>
                            <a:lnTo>
                              <a:pt x="13" y="3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47" y="13"/>
                            </a:lnTo>
                            <a:lnTo>
                              <a:pt x="55" y="17"/>
                            </a:lnTo>
                            <a:lnTo>
                              <a:pt x="69" y="20"/>
                            </a:lnTo>
                            <a:lnTo>
                              <a:pt x="77" y="24"/>
                            </a:lnTo>
                            <a:lnTo>
                              <a:pt x="81" y="27"/>
                            </a:lnTo>
                            <a:lnTo>
                              <a:pt x="89" y="20"/>
                            </a:lnTo>
                          </a:path>
                        </a:pathLst>
                      </a:custGeom>
                      <a:solidFill>
                        <a:srgbClr val="712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40" name=""/>
                      <p:cNvGrpSpPr/>
                      <p:nvPr/>
                    </p:nvGrpSpPr>
                    <p:grpSpPr>
                      <a:xfrm>
                        <a:off x="2414520" y="2319480"/>
                        <a:ext cx="349200" cy="398160"/>
                        <a:chOff x="2414520" y="2319480"/>
                        <a:chExt cx="349200" cy="398160"/>
                      </a:xfrm>
                    </p:grpSpPr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2414520" y="2319480"/>
                          <a:ext cx="160560" cy="64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1" h="41">
                              <a:moveTo>
                                <a:pt x="90" y="29"/>
                              </a:moveTo>
                              <a:lnTo>
                                <a:pt x="100" y="40"/>
                              </a:lnTo>
                              <a:lnTo>
                                <a:pt x="87" y="40"/>
                              </a:lnTo>
                              <a:lnTo>
                                <a:pt x="78" y="32"/>
                              </a:lnTo>
                              <a:lnTo>
                                <a:pt x="65" y="22"/>
                              </a:lnTo>
                              <a:lnTo>
                                <a:pt x="52" y="14"/>
                              </a:lnTo>
                              <a:lnTo>
                                <a:pt x="0" y="0"/>
                              </a:lnTo>
                              <a:lnTo>
                                <a:pt x="61" y="10"/>
                              </a:lnTo>
                              <a:lnTo>
                                <a:pt x="78" y="18"/>
                              </a:lnTo>
                              <a:lnTo>
                                <a:pt x="90" y="29"/>
                              </a:lnTo>
                            </a:path>
                          </a:pathLst>
                        </a:custGeom>
                        <a:solidFill>
                          <a:srgbClr val="71200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0" bIns="18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2651040" y="2406600"/>
                          <a:ext cx="112680" cy="14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9">
                              <a:moveTo>
                                <a:pt x="8" y="0"/>
                              </a:moveTo>
                              <a:lnTo>
                                <a:pt x="0" y="4"/>
                              </a:lnTo>
                              <a:lnTo>
                                <a:pt x="4" y="8"/>
                              </a:lnTo>
                              <a:lnTo>
                                <a:pt x="13" y="4"/>
                              </a:lnTo>
                              <a:lnTo>
                                <a:pt x="33" y="4"/>
                              </a:lnTo>
                              <a:lnTo>
                                <a:pt x="70" y="8"/>
                              </a:lnTo>
                              <a:lnTo>
                                <a:pt x="37" y="2"/>
                              </a:lnTo>
                              <a:lnTo>
                                <a:pt x="21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71200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>
                          <a:off x="2482920" y="2573280"/>
                          <a:ext cx="9216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8" h="23">
                              <a:moveTo>
                                <a:pt x="57" y="15"/>
                              </a:moveTo>
                              <a:lnTo>
                                <a:pt x="44" y="15"/>
                              </a:lnTo>
                              <a:lnTo>
                                <a:pt x="32" y="15"/>
                              </a:lnTo>
                              <a:lnTo>
                                <a:pt x="21" y="9"/>
                              </a:lnTo>
                              <a:lnTo>
                                <a:pt x="13" y="3"/>
                              </a:lnTo>
                              <a:lnTo>
                                <a:pt x="0" y="0"/>
                              </a:lnTo>
                              <a:lnTo>
                                <a:pt x="5" y="3"/>
                              </a:lnTo>
                              <a:lnTo>
                                <a:pt x="13" y="9"/>
                              </a:lnTo>
                              <a:lnTo>
                                <a:pt x="16" y="19"/>
                              </a:lnTo>
                              <a:lnTo>
                                <a:pt x="24" y="22"/>
                              </a:lnTo>
                              <a:lnTo>
                                <a:pt x="32" y="22"/>
                              </a:lnTo>
                              <a:lnTo>
                                <a:pt x="40" y="22"/>
                              </a:lnTo>
                              <a:lnTo>
                                <a:pt x="57" y="15"/>
                              </a:lnTo>
                            </a:path>
                          </a:pathLst>
                        </a:custGeom>
                        <a:solidFill>
                          <a:srgbClr val="71200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>
                          <a:off x="2454120" y="2711520"/>
                          <a:ext cx="3672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" h="4">
                              <a:moveTo>
                                <a:pt x="22" y="2"/>
                              </a:moveTo>
                              <a:lnTo>
                                <a:pt x="16" y="2"/>
                              </a:lnTo>
                              <a:lnTo>
                                <a:pt x="9" y="1"/>
                              </a:lnTo>
                              <a:lnTo>
                                <a:pt x="0" y="0"/>
                              </a:lnTo>
                              <a:lnTo>
                                <a:pt x="6" y="3"/>
                              </a:lnTo>
                              <a:lnTo>
                                <a:pt x="16" y="3"/>
                              </a:lnTo>
                              <a:lnTo>
                                <a:pt x="22" y="2"/>
                              </a:lnTo>
                            </a:path>
                          </a:pathLst>
                        </a:custGeom>
                        <a:solidFill>
                          <a:srgbClr val="71200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5" name=""/>
                      <p:cNvGrpSpPr/>
                      <p:nvPr/>
                    </p:nvGrpSpPr>
                    <p:grpSpPr>
                      <a:xfrm>
                        <a:off x="2482920" y="2660760"/>
                        <a:ext cx="38160" cy="44280"/>
                        <a:chOff x="2482920" y="2660760"/>
                        <a:chExt cx="38160" cy="44280"/>
                      </a:xfrm>
                    </p:grpSpPr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>
                          <a:off x="2498760" y="2703600"/>
                          <a:ext cx="223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" h="1">
                              <a:moveTo>
                                <a:pt x="13" y="0"/>
                              </a:moveTo>
                              <a:lnTo>
                                <a:pt x="8" y="0"/>
                              </a:lnTo>
                              <a:lnTo>
                                <a:pt x="0" y="0"/>
                              </a:lnTo>
                              <a:lnTo>
                                <a:pt x="3" y="0"/>
                              </a:lnTo>
                              <a:lnTo>
                                <a:pt x="8" y="0"/>
                              </a:lnTo>
                              <a:lnTo>
                                <a:pt x="13" y="0"/>
                              </a:lnTo>
                            </a:path>
                          </a:pathLst>
                        </a:custGeom>
                        <a:solidFill>
                          <a:srgbClr val="71200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>
                          <a:off x="2482920" y="2660760"/>
                          <a:ext cx="79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" h="1">
                              <a:moveTo>
                                <a:pt x="0" y="0"/>
                              </a:moveTo>
                              <a:lnTo>
                                <a:pt x="1" y="0"/>
                              </a:lnTo>
                              <a:lnTo>
                                <a:pt x="3" y="0"/>
                              </a:lnTo>
                              <a:lnTo>
                                <a:pt x="4" y="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71200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8" name=""/>
                      <p:cNvGrpSpPr/>
                      <p:nvPr/>
                    </p:nvGrpSpPr>
                    <p:grpSpPr>
                      <a:xfrm>
                        <a:off x="2413080" y="2382840"/>
                        <a:ext cx="320760" cy="125280"/>
                        <a:chOff x="2413080" y="2382840"/>
                        <a:chExt cx="320760" cy="125280"/>
                      </a:xfrm>
                    </p:grpSpPr>
                    <p:grpSp>
                      <p:nvGrpSpPr>
                        <p:cNvPr id="149" name=""/>
                        <p:cNvGrpSpPr/>
                        <p:nvPr/>
                      </p:nvGrpSpPr>
                      <p:grpSpPr>
                        <a:xfrm>
                          <a:off x="2617920" y="2457360"/>
                          <a:ext cx="115920" cy="50760"/>
                          <a:chOff x="2617920" y="2457360"/>
                          <a:chExt cx="115920" cy="50760"/>
                        </a:xfrm>
                      </p:grpSpPr>
                      <p:sp>
                        <p:nvSpPr>
                          <p:cNvPr id="150" name=""/>
                          <p:cNvSpPr/>
                          <p:nvPr/>
                        </p:nvSpPr>
                        <p:spPr>
                          <a:xfrm>
                            <a:off x="2617920" y="2457360"/>
                            <a:ext cx="115920" cy="50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3" h="32">
                                <a:moveTo>
                                  <a:pt x="72" y="18"/>
                                </a:moveTo>
                                <a:lnTo>
                                  <a:pt x="57" y="23"/>
                                </a:lnTo>
                                <a:lnTo>
                                  <a:pt x="48" y="31"/>
                                </a:lnTo>
                                <a:lnTo>
                                  <a:pt x="34" y="31"/>
                                </a:lnTo>
                                <a:lnTo>
                                  <a:pt x="19" y="27"/>
                                </a:lnTo>
                                <a:lnTo>
                                  <a:pt x="14" y="13"/>
                                </a:lnTo>
                                <a:lnTo>
                                  <a:pt x="0" y="8"/>
                                </a:lnTo>
                                <a:lnTo>
                                  <a:pt x="24" y="0"/>
                                </a:lnTo>
                                <a:lnTo>
                                  <a:pt x="43" y="0"/>
                                </a:lnTo>
                                <a:lnTo>
                                  <a:pt x="57" y="8"/>
                                </a:lnTo>
                                <a:lnTo>
                                  <a:pt x="72" y="18"/>
                                </a:lnTo>
                              </a:path>
                            </a:pathLst>
                          </a:custGeom>
                          <a:solidFill>
                            <a:srgbClr val="712000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1" name=""/>
                          <p:cNvSpPr/>
                          <p:nvPr/>
                        </p:nvSpPr>
                        <p:spPr>
                          <a:xfrm>
                            <a:off x="2664000" y="2463840"/>
                            <a:ext cx="23760" cy="28440"/>
                          </a:xfrm>
                          <a:prstGeom prst="ellipse">
                            <a:avLst/>
                          </a:prstGeom>
                          <a:solidFill>
                            <a:srgbClr val="712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6280" bIns="-26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2" name=""/>
                          <p:cNvSpPr/>
                          <p:nvPr/>
                        </p:nvSpPr>
                        <p:spPr>
                          <a:xfrm>
                            <a:off x="2635200" y="2457360"/>
                            <a:ext cx="98640" cy="22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2" h="14">
                                <a:moveTo>
                                  <a:pt x="61" y="13"/>
                                </a:moveTo>
                                <a:lnTo>
                                  <a:pt x="48" y="10"/>
                                </a:lnTo>
                                <a:lnTo>
                                  <a:pt x="40" y="8"/>
                                </a:lnTo>
                                <a:lnTo>
                                  <a:pt x="29" y="5"/>
                                </a:lnTo>
                                <a:lnTo>
                                  <a:pt x="21" y="5"/>
                                </a:lnTo>
                                <a:lnTo>
                                  <a:pt x="0" y="5"/>
                                </a:lnTo>
                                <a:lnTo>
                                  <a:pt x="21" y="0"/>
                                </a:lnTo>
                                <a:lnTo>
                                  <a:pt x="37" y="0"/>
                                </a:lnTo>
                                <a:lnTo>
                                  <a:pt x="53" y="8"/>
                                </a:lnTo>
                                <a:lnTo>
                                  <a:pt x="61" y="13"/>
                                </a:lnTo>
                              </a:path>
                            </a:pathLst>
                          </a:custGeom>
                          <a:solidFill>
                            <a:srgbClr val="712000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>
                            <a:off x="2681280" y="2476440"/>
                            <a:ext cx="1440" cy="3240"/>
                          </a:xfrm>
                          <a:prstGeom prst="ellipse">
                            <a:avLst/>
                          </a:prstGeom>
                          <a:solidFill>
                            <a:srgbClr val="712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4" name=""/>
                        <p:cNvGrpSpPr/>
                        <p:nvPr/>
                      </p:nvGrpSpPr>
                      <p:grpSpPr>
                        <a:xfrm>
                          <a:off x="2413080" y="2382840"/>
                          <a:ext cx="123840" cy="60480"/>
                          <a:chOff x="2413080" y="2382840"/>
                          <a:chExt cx="123840" cy="60480"/>
                        </a:xfrm>
                      </p:grpSpPr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>
                            <a:off x="2413080" y="2382840"/>
                            <a:ext cx="123840" cy="60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8" h="38">
                                <a:moveTo>
                                  <a:pt x="77" y="32"/>
                                </a:moveTo>
                                <a:lnTo>
                                  <a:pt x="62" y="32"/>
                                </a:lnTo>
                                <a:lnTo>
                                  <a:pt x="49" y="37"/>
                                </a:lnTo>
                                <a:lnTo>
                                  <a:pt x="34" y="32"/>
                                </a:lnTo>
                                <a:lnTo>
                                  <a:pt x="19" y="23"/>
                                </a:lnTo>
                                <a:lnTo>
                                  <a:pt x="19" y="10"/>
                                </a:lnTo>
                                <a:lnTo>
                                  <a:pt x="0" y="0"/>
                                </a:lnTo>
                                <a:lnTo>
                                  <a:pt x="19" y="0"/>
                                </a:lnTo>
                                <a:lnTo>
                                  <a:pt x="39" y="0"/>
                                </a:lnTo>
                                <a:lnTo>
                                  <a:pt x="58" y="5"/>
                                </a:lnTo>
                                <a:lnTo>
                                  <a:pt x="68" y="14"/>
                                </a:lnTo>
                                <a:lnTo>
                                  <a:pt x="68" y="23"/>
                                </a:lnTo>
                                <a:lnTo>
                                  <a:pt x="77" y="32"/>
                                </a:lnTo>
                              </a:path>
                            </a:pathLst>
                          </a:custGeom>
                          <a:solidFill>
                            <a:srgbClr val="712000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>
                            <a:off x="2475000" y="2397240"/>
                            <a:ext cx="23760" cy="23760"/>
                          </a:xfrm>
                          <a:prstGeom prst="ellipse">
                            <a:avLst/>
                          </a:prstGeom>
                          <a:solidFill>
                            <a:srgbClr val="712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7" name=""/>
                          <p:cNvSpPr/>
                          <p:nvPr/>
                        </p:nvSpPr>
                        <p:spPr>
                          <a:xfrm>
                            <a:off x="2424240" y="2382840"/>
                            <a:ext cx="112680" cy="38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24">
                                <a:moveTo>
                                  <a:pt x="70" y="23"/>
                                </a:moveTo>
                                <a:lnTo>
                                  <a:pt x="57" y="20"/>
                                </a:lnTo>
                                <a:lnTo>
                                  <a:pt x="54" y="10"/>
                                </a:lnTo>
                                <a:lnTo>
                                  <a:pt x="41" y="7"/>
                                </a:lnTo>
                                <a:lnTo>
                                  <a:pt x="28" y="3"/>
                                </a:lnTo>
                                <a:lnTo>
                                  <a:pt x="0" y="0"/>
                                </a:lnTo>
                                <a:lnTo>
                                  <a:pt x="25" y="0"/>
                                </a:lnTo>
                                <a:lnTo>
                                  <a:pt x="49" y="3"/>
                                </a:lnTo>
                                <a:lnTo>
                                  <a:pt x="62" y="10"/>
                                </a:lnTo>
                                <a:lnTo>
                                  <a:pt x="65" y="16"/>
                                </a:lnTo>
                                <a:lnTo>
                                  <a:pt x="70" y="23"/>
                                </a:lnTo>
                              </a:path>
                            </a:pathLst>
                          </a:custGeom>
                          <a:solidFill>
                            <a:srgbClr val="712000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8" name=""/>
                          <p:cNvSpPr/>
                          <p:nvPr/>
                        </p:nvSpPr>
                        <p:spPr>
                          <a:xfrm>
                            <a:off x="2481120" y="2405160"/>
                            <a:ext cx="1800" cy="7920"/>
                          </a:xfrm>
                          <a:prstGeom prst="ellipse">
                            <a:avLst/>
                          </a:prstGeom>
                          <a:solidFill>
                            <a:srgbClr val="712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1040" bIns="-410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159" name=""/>
              <p:cNvGrpSpPr/>
              <p:nvPr/>
            </p:nvGrpSpPr>
            <p:grpSpPr>
              <a:xfrm>
                <a:off x="2209680" y="2347920"/>
                <a:ext cx="32040" cy="115920"/>
                <a:chOff x="2209680" y="2347920"/>
                <a:chExt cx="32040" cy="1159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217600" y="2347920"/>
                  <a:ext cx="14400" cy="44280"/>
                </a:xfrm>
                <a:custGeom>
                  <a:avLst/>
                  <a:gdLst/>
                  <a:ahLst/>
                  <a:rect l="l" t="t" r="r" b="b"/>
                  <a:pathLst>
                    <a:path w="9" h="28">
                      <a:moveTo>
                        <a:pt x="8" y="10"/>
                      </a:moveTo>
                      <a:lnTo>
                        <a:pt x="4" y="10"/>
                      </a:lnTo>
                      <a:lnTo>
                        <a:pt x="2" y="17"/>
                      </a:lnTo>
                      <a:lnTo>
                        <a:pt x="4" y="27"/>
                      </a:lnTo>
                      <a:lnTo>
                        <a:pt x="0" y="20"/>
                      </a:lnTo>
                      <a:lnTo>
                        <a:pt x="0" y="10"/>
                      </a:lnTo>
                      <a:lnTo>
                        <a:pt x="4" y="0"/>
                      </a:lnTo>
                      <a:lnTo>
                        <a:pt x="8" y="10"/>
                      </a:lnTo>
                    </a:path>
                  </a:pathLst>
                </a:custGeom>
                <a:solidFill>
                  <a:srgbClr val="712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209680" y="2435400"/>
                  <a:ext cx="32040" cy="2844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19" y="0"/>
                      </a:move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0" y="9"/>
                      </a:lnTo>
                      <a:lnTo>
                        <a:pt x="3" y="14"/>
                      </a:lnTo>
                      <a:lnTo>
                        <a:pt x="7" y="17"/>
                      </a:lnTo>
                      <a:lnTo>
                        <a:pt x="16" y="14"/>
                      </a:lnTo>
                      <a:lnTo>
                        <a:pt x="19" y="9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712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ational Council of Teachers of </a:t>
            </a:r>
            <a:r>
              <a:rPr b="0" i="1" lang="en-US" sz="4400" spc="-1" strike="noStrike">
                <a:solidFill>
                  <a:srgbClr val="dc0081"/>
                </a:solidFill>
                <a:latin typeface="Times New Roman"/>
              </a:rPr>
              <a:t>Mathema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student should have access to a computer for individual and group work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should learn to use the computer as a tool for processing information and performing calculations to investigate and solve proble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8560" y="16462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ational Council of Teachers of </a:t>
            </a:r>
            <a:r>
              <a:rPr b="0" i="1" lang="en-US" sz="4400" spc="-1" strike="noStrike">
                <a:solidFill>
                  <a:srgbClr val="dc0081"/>
                </a:solidFill>
                <a:latin typeface="Times New Roman"/>
              </a:rPr>
              <a:t>Englis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429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use a variety of technological and information resources to gather and synthesize information and to create and communicate knowledg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conduct research ...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ing ideas and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ng problem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thering, evaluating,  and synthesizing data from a variety of 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8560" y="16462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ational </a:t>
            </a:r>
            <a:r>
              <a:rPr b="0" i="1" lang="en-US" sz="4400" spc="-1" strike="noStrike">
                <a:solidFill>
                  <a:srgbClr val="dc0081"/>
                </a:solidFill>
                <a:latin typeface="Times New Roman"/>
              </a:rPr>
              <a:t>Scienc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Education Stand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2095560"/>
            <a:ext cx="4800600" cy="36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 objects and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k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 explan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those explanations against current scientific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their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ritical and logical thinkin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8560" y="179856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68800" y="3429000"/>
            <a:ext cx="337176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ational Standards for </a:t>
            </a:r>
            <a:r>
              <a:rPr b="0" i="1" lang="en-US" sz="4400" spc="-1" strike="noStrike">
                <a:solidFill>
                  <a:srgbClr val="dc0081"/>
                </a:solidFill>
                <a:latin typeface="Times New Roman"/>
              </a:rPr>
              <a:t>Histo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in the Sch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343040" y="2095560"/>
            <a:ext cx="4419720" cy="36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iate past, present, and future ti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se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k and evaluate ev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e and analyze historical stories, illustrations, and records from the p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pret the historical rec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 historical narratives of their 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8560" y="17226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15840" y="2139840"/>
            <a:ext cx="3130560" cy="387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2-15T17:30:00Z</dcterms:created>
  <dc:creator>Deborah</dc:creator>
  <dc:description/>
  <dc:language>en-US</dc:language>
  <cp:lastModifiedBy>Gary R. Morrison</cp:lastModifiedBy>
  <cp:lastPrinted>2009-04-22T19:24:48Z</cp:lastPrinted>
  <dcterms:modified xsi:type="dcterms:W3CDTF">2001-08-13T20:04:32Z</dcterms:modified>
  <cp:revision>3</cp:revision>
  <dc:subject/>
  <dc:title>How to Use  Basic Computer Applications to  Achieve Higher-Order Thinking</dc:title>
</cp:coreProperties>
</file>